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BBE-28B2-40BA-BCC5-4B2FEB87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302-EF4E-4EC2-B062-BCC65B2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7E7-0C6D-464D-87CA-8C3E6A52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094-91C3-47DE-8AAC-34B44755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DC0-0B54-4155-9DC2-084406C3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272-7235-4FE0-8C0B-31903972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929-9305-4509-99FC-B57AFB1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155-10C8-4DBE-A1D4-BBC9A84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09A-6C71-4853-A9A8-F17E8531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8A1-17F5-4174-84A4-11EA469C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D18-399A-45E1-A57A-8C93B3E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13E-A0BF-403D-AF7B-C621FE56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264D-055D-4B00-A617-6DDA3EE59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205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ONHE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4920" y="2133720"/>
            <a:ext cx="58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Conhecer é um acto em que se cruzam o indivíduo e o objecto de conheciment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350028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CTO que exprime uma relação   de </a:t>
            </a: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CONHECIMENTO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que implica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9080" y="2708280"/>
            <a:ext cx="358560" cy="792000"/>
          </a:xfrm>
          <a:prstGeom prst="downArrow">
            <a:avLst>
              <a:gd name="adj1" fmla="val 50000"/>
              <a:gd name="adj2" fmla="val 5522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465300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Apreender qualquer coisa sobre um objecto através do pensamento e incorporar no pensamento aquilo que se apreende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24360" y="485928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onhecimento: o saber acumulado pelo homem, através das gerações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TEMA-PROBLEMA</a:t>
            </a:r>
            <a:br>
              <a:rPr sz="3200"/>
            </a:b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8.2. Da multiplicidade dos saberes à Ciência como construção racional d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2492280"/>
            <a:ext cx="792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3500280"/>
            <a:ext cx="4859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o sujeito do conhecimento (cognitiv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- o objecto do conhe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- o conhecimento (a imagem do obje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564000" y="3716280"/>
            <a:ext cx="792000" cy="217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393372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933720"/>
            <a:ext cx="79200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4005360"/>
            <a:ext cx="144360" cy="647640"/>
          </a:xfrm>
          <a:prstGeom prst="downArrow">
            <a:avLst>
              <a:gd name="adj1" fmla="val 50000"/>
              <a:gd name="adj2" fmla="val 11215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5661000"/>
            <a:ext cx="2519640" cy="504720"/>
          </a:xfrm>
          <a:custGeom>
            <a:avLst/>
            <a:gdLst>
              <a:gd name="textAreaLeft" fmla="*/ 441000 w 2519640"/>
              <a:gd name="textAreaRight" fmla="*/ 1827000 w 25196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575391"/>
                <a:lnTo>
                  <a:pt x="21116" y="7608"/>
                </a:lnTo>
                <a:lnTo>
                  <a:pt x="17280" y="0"/>
                </a:lnTo>
                <a:lnTo>
                  <a:pt x="12476" y="7608"/>
                </a:lnTo>
                <a:lnTo>
                  <a:pt x="14636" y="7608"/>
                </a:lnTo>
                <a:arcTo wR="7560" hR="21600" stAng="2824609" swAng="2217956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27280" y="404640"/>
            <a:ext cx="3384720" cy="648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1052640"/>
            <a:ext cx="0" cy="36036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1413000"/>
            <a:ext cx="583236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1413000"/>
            <a:ext cx="0" cy="43164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1413000"/>
            <a:ext cx="0" cy="43164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1844640"/>
            <a:ext cx="3384360" cy="64764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NDU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(particular para o g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1844640"/>
            <a:ext cx="3384360" cy="64764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DU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(geral para o parti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2492280"/>
            <a:ext cx="0" cy="4320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2492280"/>
            <a:ext cx="0" cy="4320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2924280"/>
            <a:ext cx="3384360" cy="280980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bservação/experimen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rmulação de hipót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plic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orias, enunciados, lei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niversai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2924280"/>
            <a:ext cx="3384360" cy="360036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rmulação de um 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rmulação de uma hipót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erificação da hipót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observação, experimentação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btenção de resultados – teori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unciados, lei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573360"/>
            <a:ext cx="0" cy="36036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4581360"/>
            <a:ext cx="0" cy="36036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51640" y="3500280"/>
            <a:ext cx="0" cy="36036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51640" y="4221000"/>
            <a:ext cx="0" cy="36036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51640" y="5156280"/>
            <a:ext cx="0" cy="36036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HECIMENTO – CONTRIBUTOS DAS CIÊNCIAS CONTEMPORÂ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359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rogressos científicos (mesmo em relação às ciências naturais/experimentais) prova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72880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- observação não é imparcial (valores do investigador  podem intervir na prática científic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- leis não são universais (o conhecimento absoluto é impossíve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20606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364500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18788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ELATIVIDADE DO CONHECIMENTO CIENT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505152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A certeza relativamente ao conhecimento científico é substituída por uma atitude crí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333399"/>
                </a:solidFill>
                <a:latin typeface="Arial"/>
              </a:rPr>
              <a:t>Toda a ciência passa a ser relativa e histórica - «as teorias científicas são mortais e são mortais por serem científicas» (E. Mori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457992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S TEORIAS CIENTÍFICAS COMO CONJECTURAS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(K. POPPER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420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ogresso cient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00360" y="148428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liminação dos erros na procura da verda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1989000"/>
            <a:ext cx="504720" cy="719280"/>
          </a:xfrm>
          <a:prstGeom prst="downArrow">
            <a:avLst>
              <a:gd name="adj1" fmla="val 50000"/>
              <a:gd name="adj2" fmla="val 35628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852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erificação das hipóteses não pode conduzir à confirmação de que são verdadeiras ou falsas, apenas poderá conduzir, ou não, à sua REFUTA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155736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6594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estadas de forma a permitir a sua refutação ou corroboração - FALSIFICACIONIS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3789360"/>
            <a:ext cx="504720" cy="719280"/>
          </a:xfrm>
          <a:prstGeom prst="downArrow">
            <a:avLst>
              <a:gd name="adj1" fmla="val 50000"/>
              <a:gd name="adj2" fmla="val 35628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4797360"/>
            <a:ext cx="43164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88000" y="4797360"/>
            <a:ext cx="4320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5518080"/>
            <a:ext cx="504720" cy="574920"/>
          </a:xfrm>
          <a:prstGeom prst="downArrow">
            <a:avLst>
              <a:gd name="adj1" fmla="val 50000"/>
              <a:gd name="adj2" fmla="val 2847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014880"/>
            <a:ext cx="8496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iência: sequência de conjectura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hipóteses) que vão sendo substituídas por novas hipóteses quando são falsifi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4581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E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5752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hipóteses/conje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5157720"/>
            <a:ext cx="43164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260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DESCONTINUIDADE DO PROGRESSO CIENTÍFICO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T. KUH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60865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iência progride de forma descontínua através de revoluções científ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11905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ctividade cientí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155736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141300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981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articipantes compartilham um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paradigma co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2360" y="198900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Modelo de referência conceptual comum (teorias, instrumentos, método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2060640"/>
            <a:ext cx="367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Qualquer disciplina científica (normal) move-se dentro dos limites de um paradig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563640" y="1557360"/>
            <a:ext cx="1584360" cy="10796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627280" y="2781000"/>
            <a:ext cx="3600360" cy="504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66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Quando anomalias persistentes questionam a base comum de um parad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933720"/>
            <a:ext cx="69138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tenta-se ajustar o quadro concep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se as anomalias persistem podem ocorrer duas situaç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se não existir nenhum paradigma alternativo que tenh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aceitação geral, debate-se, mas tudo continua idên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. se existir um paradigma alternativo, o antigo é substituído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3933720"/>
            <a:ext cx="865080" cy="1152720"/>
          </a:xfrm>
          <a:custGeom>
            <a:avLst/>
            <a:gdLst>
              <a:gd name="textAreaLeft" fmla="*/ 115920 w 865080"/>
              <a:gd name="textAreaRight" fmla="*/ 749160 w 865080"/>
              <a:gd name="textAreaTop" fmla="*/ 201240 h 1152720"/>
              <a:gd name="textAreaBottom" fmla="*/ 8384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41" stAng="-5400000" swAng="-5400000"/>
                <a:lnTo>
                  <a:pt x="0" y="11939"/>
                </a:lnTo>
                <a:arcTo wR="21600" hR="7541" stAng="10800000" swAng="-2143236"/>
                <a:lnTo>
                  <a:pt x="12167" y="20843"/>
                </a:lnTo>
                <a:lnTo>
                  <a:pt x="21600" y="17280"/>
                </a:lnTo>
                <a:lnTo>
                  <a:pt x="12167" y="12203"/>
                </a:lnTo>
                <a:lnTo>
                  <a:pt x="12167" y="14324"/>
                </a:lnTo>
                <a:arcTo wR="21600" hR="7541" stAng="8656764" swAng="1778722"/>
                <a:lnTo>
                  <a:pt x="939" y="9740"/>
                </a:lnTo>
                <a:arcTo wR="21600" hR="7541" stAng="-10435486" swAng="5035486"/>
                <a:close/>
              </a:path>
              <a:path fill="darkenLess" w="21600" h="21600">
                <a:moveTo>
                  <a:pt x="21600" y="0"/>
                </a:moveTo>
                <a:arcTo wR="21600" hR="7541" stAng="-5400000" swAng="-5400000"/>
                <a:lnTo>
                  <a:pt x="0" y="7541"/>
                </a:lnTo>
                <a:arcTo wR="21600" hR="7541" stAng="10800000" swAng="-364514"/>
                <a:lnTo>
                  <a:pt x="939" y="9740"/>
                </a:lnTo>
                <a:arcTo wR="21600" hR="7541" stAng="-10435486" swAng="503548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3933720"/>
            <a:ext cx="144360" cy="165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364000" y="5516640"/>
            <a:ext cx="432000" cy="504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 VALOR DEMOCRÁTICO DA CIÊNCI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3590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ivulgação dos conhecimentos científicos deveria ser incent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1989000"/>
            <a:ext cx="640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- ajudar a população em geral a compreender a importância da ciênc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- informar/formar a população, no sentido de lhes proporcionar competências para participar nas decisões que são tom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844640"/>
            <a:ext cx="865080" cy="1079640"/>
          </a:xfrm>
          <a:custGeom>
            <a:avLst/>
            <a:gdLst>
              <a:gd name="textAreaLeft" fmla="*/ 115920 w 865080"/>
              <a:gd name="textAreaRight" fmla="*/ 749160 w 86508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79417"/>
                <a:lnTo>
                  <a:pt x="14388" y="21166"/>
                </a:lnTo>
                <a:lnTo>
                  <a:pt x="21600" y="17280"/>
                </a:lnTo>
                <a:lnTo>
                  <a:pt x="14388" y="12526"/>
                </a:lnTo>
                <a:lnTo>
                  <a:pt x="14388" y="14686"/>
                </a:lnTo>
                <a:arcTo wR="21600" hR="7560" stAng="8120583" swAng="2321982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500280"/>
            <a:ext cx="6337440" cy="1441440"/>
          </a:xfrm>
          <a:noFill/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uncionamento da própria democracia irá depender da capacidade que os indivíduos têm para intervir e para participar na discussão de temas e nos debates monopolizados, muitas vezes, por técnicos e especialis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076640"/>
            <a:ext cx="2335320" cy="2152800"/>
          </a:xfrm>
          <a:prstGeom prst="borderCallout2">
            <a:avLst>
              <a:gd name="adj1" fmla="val 18750"/>
              <a:gd name="adj2" fmla="val -8333"/>
              <a:gd name="adj3" fmla="val 5310"/>
              <a:gd name="adj4" fmla="val 103263"/>
              <a:gd name="adj5" fmla="val -90263"/>
              <a:gd name="adj6" fmla="val 103263"/>
            </a:avLst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Maior facilidade de acesso ao conhecimento científico poderá gerar um maior espírito crítico face à própria ciência e às suas aplicações.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ÁTICA CIENTÍFICA E TECNOLÓGICA – PROBLEMAS ÉTICO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810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envolvimento cient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981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ão é neutro – o impacto das suas aplicações pode ser devastador para a socied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1700280"/>
            <a:ext cx="505080" cy="718920"/>
          </a:xfrm>
          <a:prstGeom prst="downArrow">
            <a:avLst>
              <a:gd name="adj1" fmla="val 50000"/>
              <a:gd name="adj2" fmla="val 35584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2565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BLEMAS ÉT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119700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076640"/>
            <a:ext cx="16923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Possibilidades de manipulação da vida e dos comportamentos dos seres human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042560" y="2924280"/>
            <a:ext cx="302436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BIOÉ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37162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MBI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3716280"/>
            <a:ext cx="30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CIRCULAÇÃO 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INFORMAÇÃO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CONTROLO DOS CIDADÃ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371628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ACESSO GLOBALIZADO AO PODER TECNOLÓGI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276720" y="2997360"/>
            <a:ext cx="1295280" cy="7189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19640" y="2997360"/>
            <a:ext cx="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2997360"/>
            <a:ext cx="1441440" cy="647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00360" y="4076640"/>
            <a:ext cx="2050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lterações climáticas do planeta, poluição, esgotamento de alguns recursos naturais, etc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4371840"/>
            <a:ext cx="2519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Internet: conflito entre a privacidade e a liberdade dos cidadãos no ciberespaço («ataques», acesso aos dados pessoais no caso de pagamentos de compr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89800" y="4292640"/>
            <a:ext cx="2519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lang="pt-PT" sz="1400" spc="-1" strike="noStrike">
                <a:solidFill>
                  <a:srgbClr val="333399"/>
                </a:solidFill>
                <a:latin typeface="Arial"/>
              </a:rPr>
              <a:t>poder tecnológico continua a estar concentrado nos países mais desenvolvidos. Nos países menos desenvolvidos, maior parte da população não tem possibilidades de acesso às novas tecnologias da informa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IPOS DE RELACIONAMENTO ENTRE O SUJEITO E UM OBJ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1413000"/>
            <a:ext cx="6588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MÍTICO-MÁGICO: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conhecimento baseado em crenças mediadas através de símbolos do bem e do mal (primeira forma de relacionamento do homem com o mundo que o rode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692280"/>
            <a:ext cx="792000" cy="3168360"/>
          </a:xfrm>
          <a:custGeom>
            <a:avLst/>
            <a:gdLst>
              <a:gd name="textAreaLeft" fmla="*/ 105840 w 792000"/>
              <a:gd name="textAreaRight" fmla="*/ 686160 w 792000"/>
              <a:gd name="textAreaTop" fmla="*/ 554400 h 3168360"/>
              <a:gd name="textAreaBottom" fmla="*/ 2297160 h 31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514672"/>
                <a:lnTo>
                  <a:pt x="13753" y="21083"/>
                </a:lnTo>
                <a:lnTo>
                  <a:pt x="21600" y="17280"/>
                </a:lnTo>
                <a:lnTo>
                  <a:pt x="13753" y="12443"/>
                </a:lnTo>
                <a:lnTo>
                  <a:pt x="13753" y="14603"/>
                </a:lnTo>
                <a:arcTo wR="21600" hR="7560" stAng="8285328" swAng="215723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1268280"/>
            <a:ext cx="360360" cy="417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1080" y="2492280"/>
            <a:ext cx="6588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ENSO COMUM: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conhecimento que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tem por bas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compreensão do mundo que resulta da vivência dos indivíduos em sociedade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1080" y="3429000"/>
            <a:ext cx="6588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LOSÓFICO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conhecimento que procura, com rigor, a origem dos problemas, muitas vezes imperceptíveis aos sentidos, articulando todos os aspectos da vida humana, numa abordagem integradora.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36720" y="4611600"/>
            <a:ext cx="658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CIENTÍFICO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conhecimento que procura descobrir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funcionamento da natureza e da sociedade através, principalmente, das relações de causa e efeito.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343080"/>
            <a:ext cx="6480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 CONSTRUÇÃO DA REALIDADE PELO SENSO COMUM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280" y="15764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ENSO CO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00280"/>
            <a:ext cx="865080" cy="216000"/>
          </a:xfrm>
          <a:custGeom>
            <a:avLst/>
            <a:gdLst>
              <a:gd name="textAreaLeft" fmla="*/ 108000 w 865080"/>
              <a:gd name="textAreaRight" fmla="*/ 757080 w 865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1197000"/>
            <a:ext cx="532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Conjuntos heterogéneos de saberes práticos e de preferências que orientam a vida quotidiana dos indivíduos e dos grupos, nos seus comportamentos e opções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7828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00280"/>
            <a:ext cx="468360" cy="2520720"/>
          </a:xfrm>
          <a:custGeom>
            <a:avLst/>
            <a:gdLst>
              <a:gd name="textAreaLeft" fmla="*/ 62640 w 468360"/>
              <a:gd name="textAreaRight" fmla="*/ 405720 w 468360"/>
              <a:gd name="textAreaTop" fmla="*/ 441000 h 2520720"/>
              <a:gd name="textAreaBottom" fmla="*/ 182772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2492280"/>
            <a:ext cx="6192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Prático e pragmático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onstata e aceita os acontecimentos, sugerindo, muitas vezes, formas de agir.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Subjectivo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pressa sentimentos e opiniões de indivíduos e de grupos, que variam consoante o meio social em que estes estão inserido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Valorativo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sulta das experiências pessoais e apenas se limita a consubstanciar uma opinião acrítica sobre o que aconteceu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Não sistematizado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ão reflecte sobre os seus conteúdos de forma a estabelecer uma relação entre eles, organizando-os como um conjunto organizado e coerente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637000"/>
            <a:ext cx="142920" cy="2736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719360"/>
            <a:ext cx="26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HECIMENT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1839960"/>
            <a:ext cx="57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errogação e reflexão sobre os problemas humanos, muitas vezes, imperceptíveis aos sentido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060640"/>
            <a:ext cx="574560" cy="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3933720"/>
            <a:ext cx="2305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Reflexões colocam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00" y="189000"/>
            <a:ext cx="86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CONSTRUÇÃO FILOSÓFICA CLÁSSICA SOBRE O ACTO DE CONHECE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38228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RIGEM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ATUREZA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270972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4149720"/>
            <a:ext cx="1295640" cy="43164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3860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IGEM DOS CONH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45878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1197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557360"/>
            <a:ext cx="838836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(1) EMPIRISMO: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o conhecimento deriva da experiência, o aparelho senso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                                 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é o responsável pelos conhecimentos que adquirimos, da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                                 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não existirem ideias ina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FENSORES DO EMPIRISMO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: LOCKE e HUME (</a:t>
            </a: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</a:rPr>
              <a:t>todo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 o conheci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                                                                   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riva da experiência).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98100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UAS RESPOSTAS, DUAS COR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1800000" cy="115272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3429000"/>
            <a:ext cx="81723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2) RACIONALISMO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conhecimento também tem origem na razão, podend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constituir-se de forma puramente racional, pois é a raz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que estabelece os princípios a partir dos quais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conhecimentos têm origem.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ESCARTES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– rejeitava os sentidos como fontes do conhecimento e defendia que Deus era a «verdadeira raiz da árvore do saber».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516640"/>
            <a:ext cx="8964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ANT - RACIONALISMO CRÍT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nciliação entre empirismo e racionalismo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–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do o conhecimento começa na experiência (fornece a matéria), mas o sujeito que conhece possui certas formas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a priori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independentes da experiência (razão), que integram os elementos fornecidos pela experiência, ou seja, dão-lhe for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1159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 NATUREZA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852640"/>
            <a:ext cx="871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ALISMO: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xiste o mundo em que vivemos e que conhec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irectamente as coisas como elas são.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2092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P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258560" y="549360"/>
            <a:ext cx="2089080" cy="863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057320"/>
            <a:ext cx="5400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99"/>
                </a:solidFill>
                <a:latin typeface="Arial"/>
              </a:rPr>
              <a:t>IDEALISMO</a:t>
            </a: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pt-PT" sz="1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990033"/>
                </a:solidFill>
                <a:latin typeface="Arial"/>
              </a:rPr>
              <a:t>nega a realidade das coisas-matéria convertendo-as em coisas-ideias  – aquilo de que nos apercebemos directamente são as ideias, logo as coisas são ide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1628640"/>
            <a:ext cx="93492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1916280"/>
            <a:ext cx="647640" cy="93636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3357720"/>
            <a:ext cx="576360" cy="1871640"/>
          </a:xfrm>
          <a:custGeom>
            <a:avLst/>
            <a:gdLst>
              <a:gd name="textAreaLeft" fmla="*/ 77040 w 576360"/>
              <a:gd name="textAreaRight" fmla="*/ 499320 w 576360"/>
              <a:gd name="textAreaTop" fmla="*/ 327600 h 1871640"/>
              <a:gd name="textAreaBottom" fmla="*/ 135720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3860640"/>
            <a:ext cx="71280" cy="2521080"/>
          </a:xfrm>
          <a:custGeom>
            <a:avLst/>
            <a:gdLst>
              <a:gd name="textAreaLeft" fmla="*/ 45720 w 71280"/>
              <a:gd name="textAreaRight" fmla="*/ 71640 w 712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3819600"/>
            <a:ext cx="75247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RECTO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apercebemo-nos das coisas mesmas.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DIRECTO: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directamente só conhecemos as nossas representações.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GÉNUO: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as coisas são tal e qual como nos apercebem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ÍTICO: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a nossa percepção do mundo não é uma cópia exacta do que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coisas são em si mesmas, as qualidades secundárias s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subjectivas.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 CONCEITO DE CIÊNCIA – ORIG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126828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iência aparece ligada à filosof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6360" y="126828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Civilização greco-roma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1484280"/>
            <a:ext cx="12970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6360" y="221148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Idade Mé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2349360"/>
            <a:ext cx="12970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125800"/>
            <a:ext cx="50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iência herdada da tradição greco-romana fica subordinada aos critérios religios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3308400"/>
            <a:ext cx="885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As transformações sociais e culturais (século XVI) –  Descobrimentos,  desenvolvimento das actividades comerciais, ideias associadas ao Renascimento, etc.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450864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struição da concepção do mundo e da concepção de ciência domi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393372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508644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5656320"/>
            <a:ext cx="4319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PARECIMENTO 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IÊNCIA MOD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IÊNCIA MOD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343160"/>
            <a:ext cx="8785440" cy="244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787" y="1009"/>
                </a:moveTo>
                <a:lnTo>
                  <a:pt x="21838" y="1009"/>
                </a:lnTo>
                <a:lnTo>
                  <a:pt x="21838" y="-2341"/>
                </a:lnTo>
                <a:lnTo>
                  <a:pt x="8735" y="-5691"/>
                </a:ln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alorização da razão enquanto instrumento de conhec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ceitação como verdades, apenas das que resultam da investigação mediante uma demonstração – saber passa a ser adquirido pela experi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- Grande preocupação com o método, ponto de partida para a reflexão, o 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verá dispor de mecanismos de prova/demonstração/verificação que permitirão não só obter resultados, como avaliar a sua verac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4941720"/>
            <a:ext cx="165744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I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076640"/>
            <a:ext cx="7308720" cy="1368360"/>
          </a:xfrm>
          <a:prstGeom prst="wedgeRoundRectCallout">
            <a:avLst>
              <a:gd name="adj1" fmla="val -49259"/>
              <a:gd name="adj2" fmla="val 54060"/>
              <a:gd name="adj3" fmla="val 16667"/>
            </a:avLst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cc00cc"/>
                </a:solidFill>
                <a:latin typeface="Arial"/>
              </a:rPr>
              <a:t>CIÊNCIAS NATURAIS/EXPERIMENTAIS: validade do conhecimento científico só seria possível mediante a experimentação seguida de indução – método indutivo. Assim, todo o conhecimento seria o resultado da observação, experimentação e medida dos fenómenos – </a:t>
            </a:r>
            <a:r>
              <a:rPr b="1" i="1" lang="pt-PT" sz="1600" spc="-1" strike="noStrike" u="sng">
                <a:solidFill>
                  <a:srgbClr val="cc00cc"/>
                </a:solidFill>
                <a:uFillTx/>
                <a:latin typeface="Arial"/>
              </a:rPr>
              <a:t>modelo empirista-positivista</a:t>
            </a:r>
            <a:r>
              <a:rPr b="1" lang="pt-PT" sz="1600" spc="-1" strike="noStrike">
                <a:solidFill>
                  <a:srgbClr val="cc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22560" y="5660640"/>
            <a:ext cx="6553080" cy="1152720"/>
          </a:xfrm>
          <a:prstGeom prst="wedgeRoundRectCallout">
            <a:avLst>
              <a:gd name="adj1" fmla="val -54870"/>
              <a:gd name="adj2" fmla="val 53578"/>
              <a:gd name="adj3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IÊNCIAS HUMANAS E SOCIAIS: sendo praticamente impossível a experimentação, utilização de um modelo de investigação mais teórico, partindo-se do geral (teoria) para o particular – </a:t>
            </a:r>
            <a:r>
              <a:rPr b="1" i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método ded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928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RISE DO MODELO EMPIRISTA-POSITIVISTA NO SÉCULO XX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2092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RÍ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121752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Não é a observação que nos sugere a teoria, pois me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nas ciências naturais/ experimentais, ela não será um ponto de partida se não colocar um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1628640"/>
            <a:ext cx="648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504720" cy="719280"/>
          </a:xfrm>
          <a:prstGeom prst="downArrow">
            <a:avLst>
              <a:gd name="adj1" fmla="val 50000"/>
              <a:gd name="adj2" fmla="val 35628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33051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o primado da observação passa-se para o primado da teoria, ou seja, ao método indutivo opõe-se o método dedu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2:08:41Z</dcterms:created>
  <dc:creator>Platano Editora</dc:creator>
  <dc:description/>
  <dc:language>en-US</dc:language>
  <cp:lastModifiedBy>Platano Editora SA</cp:lastModifiedBy>
  <dcterms:modified xsi:type="dcterms:W3CDTF">2007-12-11T11:52:39Z</dcterms:modified>
  <cp:revision>22</cp:revision>
  <dc:subject/>
  <dc:title> UNIDADE 2 Necessidades e Consumo </dc:title>
</cp:coreProperties>
</file>