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3BA-6D9C-41F7-9602-867F1B9D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80D-35E0-4632-ADF7-EBD184C9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897-4EE5-4ACE-A109-AD8EE8DA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8BD-A3B3-4F2B-8C66-72F01CCC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A588-87A2-4809-8D33-05EE9F0F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94BB-975B-41F4-91BC-19D657B8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9FFF-9E48-47E4-A251-2BACC440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6435-C06B-4F98-91ED-77AA98E0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BC7B-27EA-4C45-8E42-030F9252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336B-FF15-4753-B3F6-B2DBEB69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97D9-10A9-4AE8-8B54-7FB5D8F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6A2-A326-4271-B641-BFDB2F94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BC77-11FA-42BE-935C-2EBB3B66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5625-1DD2-431B-A10C-A9B81D14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7668-EADE-49FB-9D25-0A0F5CB7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836C-9B4C-48D2-A32A-F3221618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681D-097A-427B-B60F-AFE1A6EE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B7D-8A91-428C-9ECC-49D69976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076-3F96-4C72-8AA5-411CA676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89D-07BF-47D9-A19D-E9BE41D6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66F-039A-4E41-B157-553335DB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EDA-0063-4144-BF08-48F7C75D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307-049F-4CF2-BA30-0E71F3D3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E74-EA58-46FF-B9F1-ADBCEF89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3FF-0819-49BF-ABB5-9105A1CDC847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39640" y="11592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E3C1-C8A1-4532-BED7-B8B4A12A7877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5280" y="1700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cc00cc"/>
                </a:solidFill>
                <a:latin typeface="Arial"/>
              </a:rPr>
              <a:t>HO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4356000" y="299736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Modelos de organização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que têm evoluído ao longo do t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8"/>
          <p:cNvSpPr/>
          <p:nvPr/>
        </p:nvSpPr>
        <p:spPr>
          <a:xfrm>
            <a:off x="2124000" y="1916280"/>
            <a:ext cx="1008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"/>
          <p:cNvSpPr/>
          <p:nvPr/>
        </p:nvSpPr>
        <p:spPr>
          <a:xfrm>
            <a:off x="2124000" y="1916280"/>
            <a:ext cx="503280" cy="5760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0"/>
          <p:cNvSpPr/>
          <p:nvPr/>
        </p:nvSpPr>
        <p:spPr>
          <a:xfrm flipH="1">
            <a:off x="2627280" y="1916280"/>
            <a:ext cx="432000" cy="5760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3132000" y="1736640"/>
            <a:ext cx="41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Animal social – </a:t>
            </a:r>
            <a:r>
              <a:rPr b="1" lang="pt-PT" sz="1600" spc="-1" strike="noStrike" u="sng">
                <a:solidFill>
                  <a:srgbClr val="333399"/>
                </a:solidFill>
                <a:uFillTx/>
                <a:latin typeface="Arial"/>
              </a:rPr>
              <a:t>vivência em socie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1116000" y="24447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Animal político (Aristóte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3"/>
          <p:cNvSpPr/>
          <p:nvPr/>
        </p:nvSpPr>
        <p:spPr>
          <a:xfrm>
            <a:off x="6227640" y="2060640"/>
            <a:ext cx="576360" cy="863640"/>
          </a:xfrm>
          <a:prstGeom prst="downArrow">
            <a:avLst>
              <a:gd name="adj1" fmla="val 50000"/>
              <a:gd name="adj2" fmla="val 3746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4"/>
          <p:cNvSpPr/>
          <p:nvPr/>
        </p:nvSpPr>
        <p:spPr>
          <a:xfrm>
            <a:off x="179280" y="386064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6600"/>
                </a:solidFill>
                <a:latin typeface="Arial"/>
              </a:rPr>
              <a:t>Modelos de organização política mais ant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5"/>
          <p:cNvSpPr/>
          <p:nvPr/>
        </p:nvSpPr>
        <p:spPr>
          <a:xfrm>
            <a:off x="3851280" y="4292640"/>
            <a:ext cx="5113440" cy="23763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CLÃ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990033"/>
                </a:solidFill>
                <a:latin typeface="Arial"/>
              </a:rPr>
              <a:t>– grupo de indivíduos unidos por parentesco e linhagem, definidos pela descendência de um ancestral com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GEN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990033"/>
                </a:solidFill>
                <a:latin typeface="Arial"/>
              </a:rPr>
              <a:t>– união política de vários clãs sob uma autoridade co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TRIBO </a:t>
            </a:r>
            <a:r>
              <a:rPr b="0" lang="pt-PT" sz="1800" spc="-1" strike="noStrike">
                <a:solidFill>
                  <a:srgbClr val="990033"/>
                </a:solidFill>
                <a:latin typeface="Arial"/>
              </a:rPr>
              <a:t>– agrupamento de várias 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CIDADES-ESTAD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990033"/>
                </a:solidFill>
                <a:latin typeface="Arial"/>
              </a:rPr>
              <a:t>– cidades que controlavam, em exclusivo, uma determinada regi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324000" y="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TEMA-PROBLEM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2.3. A construção da 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900000" y="45878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1979640" y="2205000"/>
            <a:ext cx="71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UNICEF (ajudar crianç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ORGANIZAÇÃO INTERNACIONAL DO TRABALHO (O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ACNUR – Alto Comissariado da ONU para os Refug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PNUD – Programa da ONU para o 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Capacetes Azuis – Forças de Manutenção da Paz da 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8360" y="15588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Organizações dependentes da 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3"/>
          <p:cNvSpPr/>
          <p:nvPr/>
        </p:nvSpPr>
        <p:spPr>
          <a:xfrm>
            <a:off x="61128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99"/>
                </a:solidFill>
                <a:latin typeface="Arial"/>
              </a:rPr>
              <a:t>ORGANIZAÇÕES INTERNACIONAIS DE DEFESA DOS DIREIT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4788000" y="162864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7"/>
          <p:cNvSpPr/>
          <p:nvPr/>
        </p:nvSpPr>
        <p:spPr>
          <a:xfrm>
            <a:off x="468360" y="407052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Organizações não governam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8"/>
          <p:cNvSpPr/>
          <p:nvPr/>
        </p:nvSpPr>
        <p:spPr>
          <a:xfrm>
            <a:off x="4716360" y="414972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9"/>
          <p:cNvSpPr/>
          <p:nvPr/>
        </p:nvSpPr>
        <p:spPr>
          <a:xfrm>
            <a:off x="1979640" y="4700520"/>
            <a:ext cx="71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Cruz Verme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Amnistia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Médicos sem Frontei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AMI (Assistência Médica Internacional) e Oikos – organizações portugu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4"/>
          <p:cNvSpPr/>
          <p:nvPr/>
        </p:nvSpPr>
        <p:spPr>
          <a:xfrm>
            <a:off x="395280" y="33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90033"/>
                </a:solidFill>
                <a:latin typeface="Arial"/>
              </a:rPr>
              <a:t>MODELOS DE ORGANIZAÇÃO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5"/>
          <p:cNvSpPr/>
          <p:nvPr/>
        </p:nvSpPr>
        <p:spPr>
          <a:xfrm>
            <a:off x="468360" y="1341360"/>
            <a:ext cx="1942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PÓLIS G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6"/>
          <p:cNvSpPr/>
          <p:nvPr/>
        </p:nvSpPr>
        <p:spPr>
          <a:xfrm>
            <a:off x="395280" y="3789360"/>
            <a:ext cx="1944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ABSOLU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7"/>
          <p:cNvSpPr/>
          <p:nvPr/>
        </p:nvSpPr>
        <p:spPr>
          <a:xfrm>
            <a:off x="324000" y="2492280"/>
            <a:ext cx="2087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SISTEMA FEU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9"/>
          <p:cNvSpPr/>
          <p:nvPr/>
        </p:nvSpPr>
        <p:spPr>
          <a:xfrm>
            <a:off x="2627280" y="1484280"/>
            <a:ext cx="792360" cy="217440"/>
          </a:xfrm>
          <a:prstGeom prst="rightArrow">
            <a:avLst>
              <a:gd name="adj1" fmla="val 50000"/>
              <a:gd name="adj2" fmla="val 91101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0"/>
          <p:cNvSpPr/>
          <p:nvPr/>
        </p:nvSpPr>
        <p:spPr>
          <a:xfrm>
            <a:off x="3564000" y="1197000"/>
            <a:ext cx="53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Sistema de governo de democracia directa – poder reside no povo – «incompleto», pois o direito de cidadania apenas abrange uma minoria da popul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3"/>
          <p:cNvSpPr/>
          <p:nvPr/>
        </p:nvSpPr>
        <p:spPr>
          <a:xfrm>
            <a:off x="3492360" y="3716280"/>
            <a:ext cx="53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Monarquias nacionais centralizadas: o </a:t>
            </a:r>
            <a:r>
              <a:rPr b="1" lang="pt-PT" sz="1600" spc="-1" strike="noStrike" u="sng">
                <a:solidFill>
                  <a:srgbClr val="006600"/>
                </a:solidFill>
                <a:uFillTx/>
                <a:latin typeface="Arial"/>
              </a:rPr>
              <a:t>poder centralizador e autoritário</a:t>
            </a: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 do rei era legitimado por Deus - «direito divino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4"/>
          <p:cNvSpPr/>
          <p:nvPr/>
        </p:nvSpPr>
        <p:spPr>
          <a:xfrm>
            <a:off x="2556000" y="2635200"/>
            <a:ext cx="792000" cy="217440"/>
          </a:xfrm>
          <a:prstGeom prst="rightArrow">
            <a:avLst>
              <a:gd name="adj1" fmla="val 50000"/>
              <a:gd name="adj2" fmla="val 9106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5"/>
          <p:cNvSpPr/>
          <p:nvPr/>
        </p:nvSpPr>
        <p:spPr>
          <a:xfrm>
            <a:off x="3564000" y="2387520"/>
            <a:ext cx="53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Os senhores feudais detêm o poder no interior do seu feudo, na maioria dos casos, o rei é apenas o mais poderoso dos senhores feudais – poder está fracamente centraliz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6"/>
          <p:cNvSpPr/>
          <p:nvPr/>
        </p:nvSpPr>
        <p:spPr>
          <a:xfrm>
            <a:off x="2556000" y="3933720"/>
            <a:ext cx="792000" cy="217440"/>
          </a:xfrm>
          <a:prstGeom prst="rightArrow">
            <a:avLst>
              <a:gd name="adj1" fmla="val 50000"/>
              <a:gd name="adj2" fmla="val 9106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7"/>
          <p:cNvSpPr/>
          <p:nvPr/>
        </p:nvSpPr>
        <p:spPr>
          <a:xfrm>
            <a:off x="4500720" y="5229360"/>
            <a:ext cx="4500360" cy="1295280"/>
          </a:xfr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Outras fontes de legitimação do po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Fins que justificam os meios (Maquia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- Natureza humana (Hobb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08000" y="12319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cc"/>
                </a:solidFill>
                <a:latin typeface="Arial"/>
              </a:rPr>
              <a:t>ORI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539640" y="1159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3300"/>
                </a:solidFill>
                <a:latin typeface="Arial"/>
              </a:rPr>
              <a:t>REGIME DEMOCR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0"/>
          <p:cNvSpPr/>
          <p:nvPr/>
        </p:nvSpPr>
        <p:spPr>
          <a:xfrm>
            <a:off x="1763640" y="1341360"/>
            <a:ext cx="935280" cy="216000"/>
          </a:xfrm>
          <a:prstGeom prst="rightArrow">
            <a:avLst>
              <a:gd name="adj1" fmla="val 50000"/>
              <a:gd name="adj2" fmla="val 108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1"/>
          <p:cNvSpPr/>
          <p:nvPr/>
        </p:nvSpPr>
        <p:spPr>
          <a:xfrm>
            <a:off x="2843280" y="907920"/>
            <a:ext cx="630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O desenvolvimento do capitalismo e transformações a nível cultural (Iluminismo) contribuíram para alterar a visão da sociedade e estiveram na origem das revoluções liberais (Revolução Francesa) que instauraram os regimes democr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6"/>
          <p:cNvSpPr/>
          <p:nvPr/>
        </p:nvSpPr>
        <p:spPr>
          <a:xfrm>
            <a:off x="108000" y="2960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cc"/>
                </a:solidFill>
                <a:latin typeface="Arial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8"/>
          <p:cNvSpPr/>
          <p:nvPr/>
        </p:nvSpPr>
        <p:spPr>
          <a:xfrm>
            <a:off x="3276720" y="2978280"/>
            <a:ext cx="58672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990033"/>
                </a:solidFill>
                <a:latin typeface="Arial"/>
              </a:rPr>
              <a:t>Consag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- a igualdade jurídica dos cidadãos perante a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- a separação dos poderes (legislativo, executivo e judic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- a garantia dos direitos e liberdades dos indiv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- o princípio da soberania (poder reside no pov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- o sistema representativo como princípio base a adoptar no funcionamento da dem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9"/>
          <p:cNvSpPr/>
          <p:nvPr/>
        </p:nvSpPr>
        <p:spPr>
          <a:xfrm>
            <a:off x="1476360" y="3427560"/>
            <a:ext cx="1943280" cy="649080"/>
          </a:xfrm>
          <a:custGeom>
            <a:avLst/>
            <a:gdLst>
              <a:gd name="textAreaLeft" fmla="*/ 339840 w 1943280"/>
              <a:gd name="textAreaRight" fmla="*/ 1409040 w 194328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332000" y="343080"/>
            <a:ext cx="6480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24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99"/>
                </a:solidFill>
                <a:latin typeface="Arial"/>
              </a:rPr>
              <a:t>REGIME DEMOCR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24000" y="1125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990033"/>
                </a:solidFill>
                <a:latin typeface="Arial"/>
              </a:rPr>
              <a:t>DEMOCR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0"/>
          <p:cNvSpPr/>
          <p:nvPr/>
        </p:nvSpPr>
        <p:spPr>
          <a:xfrm>
            <a:off x="2627280" y="1197000"/>
            <a:ext cx="865080" cy="216000"/>
          </a:xfrm>
          <a:custGeom>
            <a:avLst/>
            <a:gdLst>
              <a:gd name="textAreaLeft" fmla="*/ 108000 w 865080"/>
              <a:gd name="textAreaRight" fmla="*/ 757080 w 865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3635280" y="105264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Construída, </a:t>
            </a:r>
            <a:r>
              <a:rPr b="1" lang="pt-PT" sz="1600" spc="-1" strike="noStrike" u="sng">
                <a:solidFill>
                  <a:srgbClr val="990033"/>
                </a:solidFill>
                <a:uFillTx/>
                <a:latin typeface="Arial"/>
              </a:rPr>
              <a:t>aperfeiçoada</a:t>
            </a: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 ao longo do t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1"/>
          <p:cNvSpPr/>
          <p:nvPr/>
        </p:nvSpPr>
        <p:spPr>
          <a:xfrm flipH="1">
            <a:off x="4427280" y="1413000"/>
            <a:ext cx="108108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3"/>
          <p:cNvSpPr/>
          <p:nvPr/>
        </p:nvSpPr>
        <p:spPr>
          <a:xfrm>
            <a:off x="1690560" y="2349360"/>
            <a:ext cx="7345440" cy="158436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Alargamento dos direitos aos domínios económico, social e 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Pluralismo polí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Respeito pelos Direit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- Extensão do direito de voto (sufrágio univers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5"/>
          <p:cNvSpPr/>
          <p:nvPr/>
        </p:nvSpPr>
        <p:spPr>
          <a:xfrm>
            <a:off x="250920" y="4683240"/>
            <a:ext cx="2084400" cy="97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0" y="2525"/>
                </a:moveTo>
                <a:lnTo>
                  <a:pt x="22604" y="2525"/>
                </a:lnTo>
                <a:lnTo>
                  <a:pt x="22604" y="-15744"/>
                </a:lnTo>
                <a:lnTo>
                  <a:pt x="14937" y="-34048"/>
                </a:lnTo>
              </a:path>
            </a:pathLst>
          </a:custGeom>
          <a:solidFill>
            <a:srgbClr val="cc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Este aperfeiçoamento deveu-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7"/>
          <p:cNvSpPr/>
          <p:nvPr/>
        </p:nvSpPr>
        <p:spPr>
          <a:xfrm>
            <a:off x="2843280" y="501336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8"/>
          <p:cNvSpPr/>
          <p:nvPr/>
        </p:nvSpPr>
        <p:spPr>
          <a:xfrm>
            <a:off x="4067280" y="4653000"/>
            <a:ext cx="3744720" cy="863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Utopistas român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Movimento sindical e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990033"/>
                </a:solidFill>
                <a:latin typeface="Arial"/>
              </a:rPr>
              <a:t>DEMOCRACIA NA SOCIEDADE A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5"/>
          <p:cNvSpPr/>
          <p:nvPr/>
        </p:nvSpPr>
        <p:spPr>
          <a:xfrm>
            <a:off x="179280" y="1413000"/>
            <a:ext cx="32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Novos movimento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7"/>
          <p:cNvSpPr/>
          <p:nvPr/>
        </p:nvSpPr>
        <p:spPr>
          <a:xfrm>
            <a:off x="3492360" y="1555920"/>
            <a:ext cx="935280" cy="144360"/>
          </a:xfrm>
          <a:custGeom>
            <a:avLst/>
            <a:gdLst>
              <a:gd name="textAreaLeft" fmla="*/ 146160 w 935280"/>
              <a:gd name="textAreaRight" fmla="*/ 818640 w 935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8"/>
          <p:cNvSpPr/>
          <p:nvPr/>
        </p:nvSpPr>
        <p:spPr>
          <a:xfrm>
            <a:off x="4356000" y="1125360"/>
            <a:ext cx="4464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Novas formas de participação política, mais informais, formas de acção diversificada, composição social heterogéne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9"/>
          <p:cNvSpPr/>
          <p:nvPr/>
        </p:nvSpPr>
        <p:spPr>
          <a:xfrm>
            <a:off x="1332000" y="1773360"/>
            <a:ext cx="215640" cy="4316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0"/>
          <p:cNvSpPr/>
          <p:nvPr/>
        </p:nvSpPr>
        <p:spPr>
          <a:xfrm>
            <a:off x="179280" y="2205000"/>
            <a:ext cx="5113440" cy="93492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- Movimentos nacional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- Movimentos em prol dos direitos e das liber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1"/>
          <p:cNvSpPr/>
          <p:nvPr/>
        </p:nvSpPr>
        <p:spPr>
          <a:xfrm>
            <a:off x="395280" y="3573360"/>
            <a:ext cx="80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Apesar da crescente importância dos regimes democr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3"/>
          <p:cNvSpPr/>
          <p:nvPr/>
        </p:nvSpPr>
        <p:spPr>
          <a:xfrm>
            <a:off x="3352680" y="4394160"/>
            <a:ext cx="5035680" cy="1555920"/>
          </a:xfrm>
          <a:prstGeom prst="borderCallout1">
            <a:avLst>
              <a:gd name="adj1" fmla="val 18750"/>
              <a:gd name="adj2" fmla="val -8333"/>
              <a:gd name="adj3" fmla="val -29592"/>
              <a:gd name="adj4" fmla="val -867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Regista-se um </a:t>
            </a:r>
            <a:r>
              <a:rPr b="1" lang="pt-PT" sz="1800" spc="-1" strike="noStrike" u="sng">
                <a:solidFill>
                  <a:srgbClr val="990033"/>
                </a:solidFill>
                <a:uFillTx/>
                <a:latin typeface="Arial"/>
              </a:rPr>
              <a:t>enfraquecimento da participação política dos cidadãos</a:t>
            </a: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 nos processos eleitorais e na vida dos partid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(não põem em causa a democracia, deixam de acreditar nos políticos e gover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24000" y="1159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33cc"/>
                </a:solidFill>
                <a:latin typeface="Arial"/>
              </a:rPr>
              <a:t>O REGIME DEMOCRÁTICO PORTUGUÊ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5280" y="836640"/>
          <a:ext cx="8229600" cy="5665680"/>
        </p:xfrm>
        <a:graphic>
          <a:graphicData uri="http://schemas.openxmlformats.org/drawingml/2006/table">
            <a:tbl>
              <a:tblPr/>
              <a:tblGrid>
                <a:gridCol w="1235160"/>
                <a:gridCol w="4680000"/>
                <a:gridCol w="2314440"/>
              </a:tblGrid>
              <a:tr h="557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ACONTEC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NSTIT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8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volução Lib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8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Aprovada a primeira Constituição portugu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nstituição de18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823-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trocesso do processo de liberal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arta Constitucional de 18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828-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stauração regime absol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834-18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posta a Carta Co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Aprovação de uma nova Constitu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nstituição de 1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842-19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Vigorou a Carta Co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arta Co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910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mplantação da República e aprovação de uma nova Constitu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nstituição de 1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volta militar que instituiu uma ditad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9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Aprovação de uma nova Constitu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nstituição de 19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25 de Abril e restauração da democra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nstituição de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0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99"/>
                </a:solidFill>
                <a:latin typeface="Arial"/>
              </a:rPr>
              <a:t>CONSTITUIÇÕES PORTUGU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826920" y="907920"/>
            <a:ext cx="863640" cy="72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18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7"/>
          <p:cNvSpPr/>
          <p:nvPr/>
        </p:nvSpPr>
        <p:spPr>
          <a:xfrm>
            <a:off x="2268360" y="907920"/>
            <a:ext cx="6407280" cy="7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Princípio da soberani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Rei o mais alto dir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9"/>
          <p:cNvSpPr/>
          <p:nvPr/>
        </p:nvSpPr>
        <p:spPr>
          <a:xfrm>
            <a:off x="179280" y="1989000"/>
            <a:ext cx="1656000" cy="72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990033"/>
                </a:solidFill>
                <a:latin typeface="Arial"/>
              </a:rPr>
              <a:t>Car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990033"/>
                </a:solidFill>
                <a:latin typeface="Arial"/>
              </a:rPr>
              <a:t>Co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990033"/>
                </a:solidFill>
                <a:latin typeface="Arial"/>
              </a:rPr>
              <a:t>18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0"/>
          <p:cNvSpPr/>
          <p:nvPr/>
        </p:nvSpPr>
        <p:spPr>
          <a:xfrm>
            <a:off x="826920" y="2924280"/>
            <a:ext cx="863640" cy="72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18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1"/>
          <p:cNvSpPr/>
          <p:nvPr/>
        </p:nvSpPr>
        <p:spPr>
          <a:xfrm>
            <a:off x="826920" y="3860640"/>
            <a:ext cx="863640" cy="72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19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2"/>
          <p:cNvSpPr/>
          <p:nvPr/>
        </p:nvSpPr>
        <p:spPr>
          <a:xfrm>
            <a:off x="826920" y="5084640"/>
            <a:ext cx="863640" cy="72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19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4"/>
          <p:cNvSpPr/>
          <p:nvPr/>
        </p:nvSpPr>
        <p:spPr>
          <a:xfrm>
            <a:off x="2268360" y="1916280"/>
            <a:ext cx="6480360" cy="79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Compromisso entre os ideais liberais e as prerrog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reais, conferindo ao rei o poder mod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5"/>
          <p:cNvSpPr/>
          <p:nvPr/>
        </p:nvSpPr>
        <p:spPr>
          <a:xfrm>
            <a:off x="2268360" y="2924280"/>
            <a:ext cx="6407280" cy="79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Compromisso entre as teses liberais da Constituição de 18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e as teses mais conservadoras da Carta Co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6"/>
          <p:cNvSpPr/>
          <p:nvPr/>
        </p:nvSpPr>
        <p:spPr>
          <a:xfrm>
            <a:off x="2340000" y="3860640"/>
            <a:ext cx="6264360" cy="100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Retorno aos princípios liberais: sufrágio directo na elei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do Parlamento, soberania da Nação e separação dos pod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(legislativo, executivo e judicial) – democracia parlamen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7"/>
          <p:cNvSpPr/>
          <p:nvPr/>
        </p:nvSpPr>
        <p:spPr>
          <a:xfrm>
            <a:off x="2340000" y="5084640"/>
            <a:ext cx="6624720" cy="1584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Estado unitário e corporativo com quatro órgãos de soberan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Presidente da República, Governo, Assembleia Nacional (eleita p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sufrágio directo) e Tribunais. As liberdades e os direitos individu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consagrados na Constituição dependiam de leis especiais que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regulavam e que, muitas vezes, os contradizi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7928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3300"/>
                </a:solidFill>
                <a:latin typeface="Arial"/>
              </a:rPr>
              <a:t>CONSTITUIÇÃO PORTUGUESA DE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9"/>
          <p:cNvSpPr/>
          <p:nvPr/>
        </p:nvSpPr>
        <p:spPr>
          <a:xfrm>
            <a:off x="3997440" y="69228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7"/>
          <p:cNvSpPr/>
          <p:nvPr/>
        </p:nvSpPr>
        <p:spPr>
          <a:xfrm>
            <a:off x="1187280" y="1268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Restauração dos direitos e das liberdades fundamentais  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cidadãos e de um regime democr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0"/>
          <p:cNvSpPr/>
          <p:nvPr/>
        </p:nvSpPr>
        <p:spPr>
          <a:xfrm>
            <a:off x="3995640" y="19890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1187280" y="258444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Consagr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- os direitos, as liberdades e garantias dos cidadã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- a soberania 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- o reconhecimento do pluripartida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- a separação dos po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2"/>
          <p:cNvSpPr/>
          <p:nvPr/>
        </p:nvSpPr>
        <p:spPr>
          <a:xfrm>
            <a:off x="3995640" y="4078440"/>
            <a:ext cx="287280" cy="502920"/>
          </a:xfrm>
          <a:prstGeom prst="downArrow">
            <a:avLst>
              <a:gd name="adj1" fmla="val 50000"/>
              <a:gd name="adj2" fmla="val 43766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1116000" y="467352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O texto constitucional já incorporou sete revisões (entre 1982 e 2005), ordinárias e extraordinárias, tendo em vista a sua adaptação às transformações, económicas, sociais e polít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2400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OS DIREITOS HUMANOS NAS SOCIEDADES AC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71640" y="2349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Mais tarde, acrescenta uma nova perspectiva aos direitos humanos – DIREITOS CO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324000" y="9079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90033"/>
                </a:solidFill>
                <a:latin typeface="Arial"/>
              </a:rPr>
              <a:t>ONU</a:t>
            </a:r>
            <a:r>
              <a:rPr b="1" lang="pt-PT" sz="2000" spc="-1" strike="noStrike">
                <a:solidFill>
                  <a:srgbClr val="990033"/>
                </a:solidFill>
                <a:latin typeface="Arial"/>
              </a:rPr>
              <a:t> (Organização das Nações Uni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990033"/>
                </a:solidFill>
                <a:latin typeface="Arial"/>
              </a:rPr>
              <a:t>-  </a:t>
            </a: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Declaração Universal dos Direitos do Homem (1948) reúne direitos civis, políticos, económicos e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7"/>
          <p:cNvSpPr/>
          <p:nvPr/>
        </p:nvSpPr>
        <p:spPr>
          <a:xfrm>
            <a:off x="4140360" y="1773360"/>
            <a:ext cx="502920" cy="5032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8"/>
          <p:cNvSpPr/>
          <p:nvPr/>
        </p:nvSpPr>
        <p:spPr>
          <a:xfrm>
            <a:off x="4643280" y="3068640"/>
            <a:ext cx="433440" cy="576360"/>
          </a:xfrm>
          <a:prstGeom prst="downArrow">
            <a:avLst>
              <a:gd name="adj1" fmla="val 50000"/>
              <a:gd name="adj2" fmla="val 33243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2916360" y="359244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Direito à paz, ao desenvolvimento, à qualidade ambiental, ao usufruto do património comum da humanidad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539640" y="4943520"/>
            <a:ext cx="842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90033"/>
                </a:solidFill>
                <a:latin typeface="Arial"/>
              </a:rPr>
              <a:t>ONU </a:t>
            </a: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tem codificado os direitos humanos, tentando que estes passem a ter uma obrigatoriedade juríd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2:08:41Z</dcterms:created>
  <dc:creator>Platano Editora</dc:creator>
  <dc:description/>
  <dc:language>en-US</dc:language>
  <cp:lastModifiedBy>Paula Oliveira</cp:lastModifiedBy>
  <dcterms:modified xsi:type="dcterms:W3CDTF">2020-02-16T18:16:33Z</dcterms:modified>
  <cp:revision>19</cp:revision>
  <dc:subject/>
  <dc:title>UNIDADE 2 Necessidades e Consumo</dc:title>
</cp:coreProperties>
</file>