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9D6-B249-4DF3-A99A-AA509ECC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E76-1050-46E4-BA2E-237AFE07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8E1-EEE7-4052-A166-44E2C999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187-FDD4-4932-A234-6DC8A4B7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657-AEDA-4A2E-B002-7C86F326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A67-AB64-4F59-BDD0-B257343A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606-6EFD-4AE2-8171-02AC20E0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FFD-25A1-4FD7-8541-78151552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FC1-DC30-4998-AAE2-C5F325CA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3A3-B9DC-4BC7-A024-5ACFFD09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3A8-A31A-437E-8765-63EF3A3D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0ED-FC6D-46D4-98C7-1F5765C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1215-2CBA-46B3-B7D6-1983ECE7BFCE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TEMA-PROBLEMA</a:t>
            </a:r>
            <a:br>
              <a:rPr sz="3200"/>
            </a:b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1.2. Pessoa e 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213372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CONCEITO DE PES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3132000" y="1773360"/>
            <a:ext cx="53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ff"/>
                </a:solidFill>
                <a:latin typeface="Arial"/>
              </a:rPr>
              <a:t>ser individual, consciente de si próprio, com características próprias que lhe permitem participar na vida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1979640" y="263700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3059280" y="1773360"/>
            <a:ext cx="5400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 flipV="1">
            <a:off x="1979640" y="213336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3059280" y="284004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ff"/>
                </a:solidFill>
                <a:latin typeface="Arial"/>
              </a:rPr>
              <a:t>Representação de várias personagens e papéis imp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3059280" y="2781360"/>
            <a:ext cx="54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36400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34920" y="437184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INDIVÍ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>
            <a:off x="1042920" y="2852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050920" y="4365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ff"/>
                </a:solidFill>
                <a:latin typeface="Arial"/>
              </a:rPr>
              <a:t>PERSON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3"/>
          <p:cNvSpPr/>
          <p:nvPr/>
        </p:nvSpPr>
        <p:spPr>
          <a:xfrm>
            <a:off x="1835280" y="4437000"/>
            <a:ext cx="288720" cy="216000"/>
          </a:xfrm>
          <a:custGeom>
            <a:avLst/>
            <a:gdLst>
              <a:gd name="textAreaLeft" fmla="*/ 36000 w 288720"/>
              <a:gd name="textAreaRight" fmla="*/ 252720 w 288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4788000" y="4221000"/>
            <a:ext cx="428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3300"/>
                </a:solidFill>
                <a:latin typeface="Arial"/>
              </a:rPr>
              <a:t>Individualidade pessoal estruturada de forma gradual e complexa a partir da acção conjugada entre património genético e influência ambien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5"/>
          <p:cNvSpPr/>
          <p:nvPr/>
        </p:nvSpPr>
        <p:spPr>
          <a:xfrm>
            <a:off x="4788000" y="4076640"/>
            <a:ext cx="4284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6"/>
          <p:cNvSpPr/>
          <p:nvPr/>
        </p:nvSpPr>
        <p:spPr>
          <a:xfrm>
            <a:off x="4356000" y="4437000"/>
            <a:ext cx="289080" cy="216000"/>
          </a:xfrm>
          <a:custGeom>
            <a:avLst/>
            <a:gdLst>
              <a:gd name="textAreaLeft" fmla="*/ 36000 w 289080"/>
              <a:gd name="textAreaRight" fmla="*/ 253080 w 289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308880" y="15573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1692360" y="1628640"/>
            <a:ext cx="503280" cy="270000"/>
          </a:xfrm>
          <a:prstGeom prst="rightArrow">
            <a:avLst>
              <a:gd name="adj1" fmla="val 50000"/>
              <a:gd name="adj2" fmla="val 466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1116000" y="333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6600"/>
                </a:solidFill>
                <a:latin typeface="Arial"/>
              </a:rPr>
              <a:t>CULTURA E PADRÕES DE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2179800" y="15573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6"/>
          <p:cNvSpPr/>
          <p:nvPr/>
        </p:nvSpPr>
        <p:spPr>
          <a:xfrm>
            <a:off x="3635280" y="1341360"/>
            <a:ext cx="576360" cy="432000"/>
          </a:xfrm>
          <a:custGeom>
            <a:avLst/>
            <a:gdLst>
              <a:gd name="textAreaLeft" fmla="*/ 331560 w 576360"/>
              <a:gd name="textAreaRight" fmla="*/ 486360 w 57636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7"/>
          <p:cNvSpPr/>
          <p:nvPr/>
        </p:nvSpPr>
        <p:spPr>
          <a:xfrm flipV="1">
            <a:off x="3635280" y="17733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4189320" y="126828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MATERIAIS</a:t>
            </a: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pt-PT" sz="1400" spc="-1" strike="noStrike">
                <a:solidFill>
                  <a:srgbClr val="ff3300"/>
                </a:solidFill>
                <a:latin typeface="Arial"/>
              </a:rPr>
              <a:t>alimentação, vestuário, tecnologi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4284720" y="19828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ESPIRITUAIS</a:t>
            </a: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pt-PT" sz="1400" spc="-1" strike="noStrike">
                <a:solidFill>
                  <a:srgbClr val="ff3300"/>
                </a:solidFill>
                <a:latin typeface="Arial"/>
              </a:rPr>
              <a:t>crenças, hábitos, valores, normas, língua, uso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0" y="356724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PADRÕES DE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2"/>
          <p:cNvSpPr/>
          <p:nvPr/>
        </p:nvSpPr>
        <p:spPr>
          <a:xfrm>
            <a:off x="755640" y="2060640"/>
            <a:ext cx="216000" cy="1368360"/>
          </a:xfrm>
          <a:prstGeom prst="downArrow">
            <a:avLst>
              <a:gd name="adj1" fmla="val 50000"/>
              <a:gd name="adj2" fmla="val 15837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3"/>
          <p:cNvSpPr/>
          <p:nvPr/>
        </p:nvSpPr>
        <p:spPr>
          <a:xfrm>
            <a:off x="3205080" y="3591000"/>
            <a:ext cx="503280" cy="269640"/>
          </a:xfrm>
          <a:prstGeom prst="rightArrow">
            <a:avLst>
              <a:gd name="adj1" fmla="val 50000"/>
              <a:gd name="adj2" fmla="val 4666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73080" y="487512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Modos de vida próprios das sociedades e dos gru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79280" y="4869000"/>
            <a:ext cx="3240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6"/>
          <p:cNvSpPr/>
          <p:nvPr/>
        </p:nvSpPr>
        <p:spPr>
          <a:xfrm>
            <a:off x="1403280" y="3933720"/>
            <a:ext cx="216000" cy="936720"/>
          </a:xfrm>
          <a:prstGeom prst="downArrow">
            <a:avLst>
              <a:gd name="adj1" fmla="val 50000"/>
              <a:gd name="adj2" fmla="val 10841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3708360" y="3213000"/>
            <a:ext cx="3024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3529080" y="3284640"/>
            <a:ext cx="34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Muito heterogéneos no espaço e no tempo – </a:t>
            </a: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DIVERSIDADE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0"/>
          <p:cNvSpPr/>
          <p:nvPr/>
        </p:nvSpPr>
        <p:spPr>
          <a:xfrm>
            <a:off x="4284720" y="4437000"/>
            <a:ext cx="431640" cy="792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4321080" y="472428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Contacto entre culturas di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3"/>
          <p:cNvSpPr/>
          <p:nvPr/>
        </p:nvSpPr>
        <p:spPr>
          <a:xfrm>
            <a:off x="6877080" y="5157720"/>
            <a:ext cx="358920" cy="719280"/>
          </a:xfrm>
          <a:custGeom>
            <a:avLst/>
            <a:gdLst>
              <a:gd name="textAreaLeft" fmla="*/ 52560 w 358920"/>
              <a:gd name="textAreaRight" fmla="*/ 306360 w 358920"/>
              <a:gd name="textAreaTop" fmla="*/ 105120 h 719280"/>
              <a:gd name="textAreaBottom" fmla="*/ 614160 h 719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5616720" y="574056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3300"/>
                </a:solidFill>
                <a:latin typeface="Arial"/>
              </a:rPr>
              <a:t>ACULTU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1044000" y="1052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cc"/>
                </a:solidFill>
                <a:latin typeface="Arial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>
            <a:off x="5148360" y="206064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3300"/>
                </a:solidFill>
                <a:latin typeface="Arial"/>
              </a:rPr>
              <a:t>Interage com a sociedade e transforma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2"/>
          <p:cNvSpPr/>
          <p:nvPr/>
        </p:nvSpPr>
        <p:spPr>
          <a:xfrm>
            <a:off x="2556000" y="126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3"/>
          <p:cNvSpPr/>
          <p:nvPr/>
        </p:nvSpPr>
        <p:spPr>
          <a:xfrm>
            <a:off x="3203640" y="105264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3333cc"/>
                </a:solidFill>
                <a:latin typeface="Arial"/>
              </a:rPr>
              <a:t>Transmitida de geração em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4"/>
          <p:cNvSpPr/>
          <p:nvPr/>
        </p:nvSpPr>
        <p:spPr>
          <a:xfrm>
            <a:off x="5292720" y="1197000"/>
            <a:ext cx="574560" cy="216000"/>
          </a:xfrm>
          <a:prstGeom prst="rightArrow">
            <a:avLst>
              <a:gd name="adj1" fmla="val 50000"/>
              <a:gd name="adj2" fmla="val 66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5"/>
          <p:cNvSpPr/>
          <p:nvPr/>
        </p:nvSpPr>
        <p:spPr>
          <a:xfrm>
            <a:off x="5892840" y="105264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cc"/>
                </a:solidFill>
                <a:latin typeface="Arial"/>
              </a:rPr>
              <a:t>HOMEM É UM PRODUTO DA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>
            <a:off x="651672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7"/>
          <p:cNvSpPr/>
          <p:nvPr/>
        </p:nvSpPr>
        <p:spPr>
          <a:xfrm flipH="1">
            <a:off x="3635280" y="22766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8"/>
          <p:cNvSpPr/>
          <p:nvPr/>
        </p:nvSpPr>
        <p:spPr>
          <a:xfrm>
            <a:off x="611280" y="206064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3300"/>
                </a:solidFill>
                <a:latin typeface="Arial"/>
              </a:rPr>
              <a:t>HOMEM É UM AGENTE PRODUTOR DE 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"/>
          <p:cNvSpPr/>
          <p:nvPr/>
        </p:nvSpPr>
        <p:spPr>
          <a:xfrm flipV="1">
            <a:off x="1692360" y="1413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539640" y="115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3300"/>
                </a:solidFill>
                <a:latin typeface="Arial"/>
              </a:rPr>
              <a:t>HOMEM – PRODUTO E AGENTE PRODUTOR DE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539640" y="62722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33cc"/>
                </a:solidFill>
                <a:latin typeface="Arial"/>
              </a:rPr>
              <a:t>ETNOCENTRISMO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108000" y="460548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Sociedades actu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2987640" y="43164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Proximidade 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6"/>
          <p:cNvSpPr/>
          <p:nvPr/>
        </p:nvSpPr>
        <p:spPr>
          <a:xfrm>
            <a:off x="2484360" y="4437000"/>
            <a:ext cx="358920" cy="360360"/>
          </a:xfrm>
          <a:custGeom>
            <a:avLst/>
            <a:gdLst>
              <a:gd name="textAreaLeft" fmla="*/ 206640 w 358920"/>
              <a:gd name="textAreaRight" fmla="*/ 303120 w 358920"/>
              <a:gd name="textAreaTop" fmla="*/ 48600 h 360360"/>
              <a:gd name="textAreaBottom" fmla="*/ 15408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7"/>
          <p:cNvSpPr/>
          <p:nvPr/>
        </p:nvSpPr>
        <p:spPr>
          <a:xfrm flipV="1">
            <a:off x="2484360" y="4796640"/>
            <a:ext cx="358920" cy="360360"/>
          </a:xfrm>
          <a:custGeom>
            <a:avLst/>
            <a:gdLst>
              <a:gd name="textAreaLeft" fmla="*/ 206640 w 358920"/>
              <a:gd name="textAreaRight" fmla="*/ 303120 w 358920"/>
              <a:gd name="textAreaTop" fmla="*/ 48600 h 360360"/>
              <a:gd name="textAreaBottom" fmla="*/ 15408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2987640" y="48927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6600"/>
                </a:solidFill>
                <a:latin typeface="Arial"/>
              </a:rPr>
              <a:t>Diversidade 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9"/>
          <p:cNvSpPr/>
          <p:nvPr/>
        </p:nvSpPr>
        <p:spPr>
          <a:xfrm>
            <a:off x="5435640" y="4437000"/>
            <a:ext cx="576360" cy="720720"/>
          </a:xfrm>
          <a:prstGeom prst="rightArrowCallout">
            <a:avLst>
              <a:gd name="adj1" fmla="val 31264"/>
              <a:gd name="adj2" fmla="val 31262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6012000" y="4202280"/>
            <a:ext cx="31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33cc"/>
                </a:solidFill>
                <a:latin typeface="Arial"/>
              </a:rPr>
              <a:t>Possibilidade de choques culturais –  tendência para julgar os padrões das outras culturas com base nos da nos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6948360" y="5518080"/>
            <a:ext cx="1368720" cy="863640"/>
          </a:xfrm>
          <a:custGeom>
            <a:avLst/>
            <a:gdLst>
              <a:gd name="textAreaLeft" fmla="*/ 183240 w 1368720"/>
              <a:gd name="textAreaRight" fmla="*/ 1185480 w 136872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1332000" y="343080"/>
            <a:ext cx="6480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979640" y="295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9999"/>
                </a:solidFill>
                <a:latin typeface="Arial"/>
              </a:rPr>
              <a:t>SOCI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7082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9900"/>
                </a:solidFill>
                <a:latin typeface="Arial"/>
              </a:rPr>
              <a:t>PROCESSO DE APRENDIZAGEM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908000" y="2565360"/>
            <a:ext cx="433440" cy="576360"/>
          </a:xfrm>
          <a:prstGeom prst="downArrow">
            <a:avLst>
              <a:gd name="adj1" fmla="val 50000"/>
              <a:gd name="adj2" fmla="val 3324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395280" y="3284640"/>
            <a:ext cx="370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Indivíduos aprendem os valores, as regras e as práticas próprias da sociedade a que pertencem, ao </a:t>
            </a:r>
            <a:r>
              <a:rPr b="1" lang="pt-PT" sz="1800" spc="-1" strike="noStrike" u="sng">
                <a:solidFill>
                  <a:srgbClr val="333399"/>
                </a:solidFill>
                <a:uFillTx/>
                <a:latin typeface="Arial"/>
              </a:rPr>
              <a:t>LONGO DE TODA A SU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1"/>
          <p:cNvSpPr/>
          <p:nvPr/>
        </p:nvSpPr>
        <p:spPr>
          <a:xfrm rot="10800000">
            <a:off x="1979640" y="764640"/>
            <a:ext cx="792000" cy="863640"/>
          </a:xfrm>
          <a:custGeom>
            <a:avLst/>
            <a:gdLst>
              <a:gd name="textAreaLeft" fmla="*/ 113040 w 792000"/>
              <a:gd name="textAreaRight" fmla="*/ 678960 w 792000"/>
              <a:gd name="textAreaTop" fmla="*/ 493560 h 863640"/>
              <a:gd name="textAreaBottom" fmla="*/ 740520 h 863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4643280" y="1182600"/>
            <a:ext cx="43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9999"/>
                </a:solidFill>
                <a:latin typeface="Arial"/>
              </a:rPr>
              <a:t>AGENTES</a:t>
            </a:r>
            <a:r>
              <a:rPr b="1" lang="pt-PT" sz="2000" spc="-1" strike="noStrike">
                <a:solidFill>
                  <a:srgbClr val="009900"/>
                </a:solidFill>
                <a:latin typeface="Arial"/>
              </a:rPr>
              <a:t> – </a:t>
            </a:r>
            <a:r>
              <a:rPr b="1" lang="pt-PT" sz="1400" spc="-1" strike="noStrike">
                <a:solidFill>
                  <a:srgbClr val="009900"/>
                </a:solidFill>
                <a:latin typeface="Arial"/>
              </a:rPr>
              <a:t>família, escola, meios de comunicação social, grupos de par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9999"/>
                </a:solidFill>
                <a:latin typeface="Arial"/>
              </a:rPr>
              <a:t>MECANISMOS</a:t>
            </a:r>
            <a:r>
              <a:rPr b="1" lang="pt-PT" sz="2000" spc="-1" strike="noStrike">
                <a:solidFill>
                  <a:srgbClr val="009900"/>
                </a:solidFill>
                <a:latin typeface="Arial"/>
              </a:rPr>
              <a:t> – </a:t>
            </a:r>
            <a:r>
              <a:rPr b="1" lang="pt-PT" sz="1200" spc="-1" strike="noStrike">
                <a:solidFill>
                  <a:srgbClr val="009900"/>
                </a:solidFill>
                <a:latin typeface="Arial"/>
              </a:rPr>
              <a:t>IMITAÇÃO, APRENDIZAGEM E IDENTIF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3851280" y="1052640"/>
            <a:ext cx="720720" cy="1152360"/>
          </a:xfrm>
          <a:custGeom>
            <a:avLst/>
            <a:gdLst>
              <a:gd name="textAreaLeft" fmla="*/ 66960 w 720720"/>
              <a:gd name="textAreaRight" fmla="*/ 653760 w 720720"/>
              <a:gd name="textAreaTop" fmla="*/ 649800 h 1152360"/>
              <a:gd name="textAreaBottom" fmla="*/ 964800 h 115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183" y="6183"/>
                </a:lnTo>
                <a:lnTo>
                  <a:pt x="8694" y="6183"/>
                </a:lnTo>
                <a:lnTo>
                  <a:pt x="8694" y="12181"/>
                </a:lnTo>
                <a:lnTo>
                  <a:pt x="4413" y="12181"/>
                </a:lnTo>
                <a:lnTo>
                  <a:pt x="4413" y="8663"/>
                </a:lnTo>
                <a:lnTo>
                  <a:pt x="0" y="15131"/>
                </a:lnTo>
                <a:lnTo>
                  <a:pt x="4413" y="21600"/>
                </a:lnTo>
                <a:lnTo>
                  <a:pt x="4413" y="18082"/>
                </a:lnTo>
                <a:lnTo>
                  <a:pt x="17187" y="18082"/>
                </a:lnTo>
                <a:lnTo>
                  <a:pt x="17187" y="21600"/>
                </a:lnTo>
                <a:lnTo>
                  <a:pt x="21600" y="15131"/>
                </a:lnTo>
                <a:lnTo>
                  <a:pt x="17187" y="8663"/>
                </a:lnTo>
                <a:lnTo>
                  <a:pt x="17187" y="12181"/>
                </a:lnTo>
                <a:lnTo>
                  <a:pt x="12906" y="12181"/>
                </a:lnTo>
                <a:lnTo>
                  <a:pt x="12906" y="6183"/>
                </a:lnTo>
                <a:lnTo>
                  <a:pt x="15417" y="6183"/>
                </a:lnTo>
                <a:lnTo>
                  <a:pt x="10800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3635280" y="4365720"/>
            <a:ext cx="1657440" cy="431640"/>
          </a:xfrm>
          <a:prstGeom prst="rightArrow">
            <a:avLst>
              <a:gd name="adj1" fmla="val 50000"/>
              <a:gd name="adj2" fmla="val 959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1"/>
          <p:cNvSpPr/>
          <p:nvPr/>
        </p:nvSpPr>
        <p:spPr>
          <a:xfrm>
            <a:off x="5364000" y="3860640"/>
            <a:ext cx="71640" cy="1513080"/>
          </a:xfrm>
          <a:custGeom>
            <a:avLst/>
            <a:gdLst>
              <a:gd name="textAreaLeft" fmla="*/ 45720 w 71640"/>
              <a:gd name="textAreaRight" fmla="*/ 72000 w 716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5435640" y="3789360"/>
            <a:ext cx="37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pt-PT" sz="1800" spc="-1" strike="noStrike">
                <a:solidFill>
                  <a:srgbClr val="009900"/>
                </a:solidFill>
                <a:latin typeface="Arial"/>
              </a:rPr>
              <a:t>Infância e adolescência –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pt-PT" sz="1800" spc="-1" strike="noStrike">
                <a:solidFill>
                  <a:srgbClr val="009999"/>
                </a:solidFill>
                <a:latin typeface="Arial"/>
              </a:rPr>
              <a:t>SOCIALIZAÇÃO PRIM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pt-PT" sz="1800" spc="-1" strike="noStrike">
                <a:solidFill>
                  <a:srgbClr val="009900"/>
                </a:solidFill>
                <a:latin typeface="Arial"/>
              </a:rPr>
              <a:t>Resto da vid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pt-PT" sz="1800" spc="-1" strike="noStrike">
                <a:solidFill>
                  <a:srgbClr val="009999"/>
                </a:solidFill>
                <a:latin typeface="Arial"/>
              </a:rPr>
              <a:t>SOCIALIZAÇÃO SECUND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33cc"/>
                </a:solidFill>
                <a:latin typeface="Arial"/>
              </a:rPr>
              <a:t>INTEGRAÇÃO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7716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00cc"/>
                </a:solidFill>
                <a:latin typeface="Arial"/>
              </a:rPr>
              <a:t>Processo de socialização v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5"/>
          <p:cNvSpPr/>
          <p:nvPr/>
        </p:nvSpPr>
        <p:spPr>
          <a:xfrm>
            <a:off x="3564000" y="1700280"/>
            <a:ext cx="532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00cc"/>
                </a:solidFill>
                <a:latin typeface="Arial"/>
              </a:rPr>
              <a:t>Adaptar o indivíduo à socie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0"/>
          <p:cNvSpPr/>
          <p:nvPr/>
        </p:nvSpPr>
        <p:spPr>
          <a:xfrm>
            <a:off x="5076720" y="981000"/>
            <a:ext cx="358920" cy="720720"/>
          </a:xfrm>
          <a:prstGeom prst="downArrow">
            <a:avLst>
              <a:gd name="adj1" fmla="val 50000"/>
              <a:gd name="adj2" fmla="val 50201"/>
            </a:avLst>
          </a:prstGeom>
          <a:solidFill>
            <a:srgbClr val="3333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"/>
          <p:cNvSpPr/>
          <p:nvPr/>
        </p:nvSpPr>
        <p:spPr>
          <a:xfrm>
            <a:off x="2627280" y="3427560"/>
            <a:ext cx="208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cc00cc"/>
                </a:solidFill>
                <a:latin typeface="Arial"/>
              </a:rPr>
              <a:t>PROCESSO DE SOCIAL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9"/>
          <p:cNvSpPr/>
          <p:nvPr/>
        </p:nvSpPr>
        <p:spPr>
          <a:xfrm>
            <a:off x="2556000" y="1844640"/>
            <a:ext cx="936360" cy="289080"/>
          </a:xfrm>
          <a:prstGeom prst="rightArrow">
            <a:avLst>
              <a:gd name="adj1" fmla="val 50000"/>
              <a:gd name="adj2" fmla="val 8097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1"/>
          <p:cNvSpPr/>
          <p:nvPr/>
        </p:nvSpPr>
        <p:spPr>
          <a:xfrm>
            <a:off x="5149800" y="227664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solidFill>
            <a:srgbClr val="3333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5"/>
          <p:cNvSpPr/>
          <p:nvPr/>
        </p:nvSpPr>
        <p:spPr>
          <a:xfrm>
            <a:off x="3203640" y="2706840"/>
            <a:ext cx="4681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9999"/>
                </a:solidFill>
                <a:latin typeface="Arial"/>
              </a:rPr>
              <a:t>MECANISMOS DE CONTROLO SOC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9999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9"/>
          <p:cNvSpPr/>
          <p:nvPr/>
        </p:nvSpPr>
        <p:spPr>
          <a:xfrm>
            <a:off x="4859280" y="3213000"/>
            <a:ext cx="865080" cy="792360"/>
          </a:xfrm>
          <a:custGeom>
            <a:avLst/>
            <a:gdLst>
              <a:gd name="textAreaLeft" fmla="*/ 86400 w 865080"/>
              <a:gd name="textAreaRight" fmla="*/ 778680 w 86508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0"/>
          <p:cNvSpPr/>
          <p:nvPr/>
        </p:nvSpPr>
        <p:spPr>
          <a:xfrm>
            <a:off x="5940360" y="357192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cc00cc"/>
                </a:solidFill>
                <a:latin typeface="Arial"/>
              </a:rPr>
              <a:t>SAN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1"/>
          <p:cNvSpPr/>
          <p:nvPr/>
        </p:nvSpPr>
        <p:spPr>
          <a:xfrm>
            <a:off x="5435640" y="4438800"/>
            <a:ext cx="2160720" cy="5029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502920"/>
              <a:gd name="textAreaBottom" fmla="*/ 240840 h 502920"/>
            </a:gdLst>
            <a:ahLst/>
            <a:rect l="textAreaLeft" t="textAreaTop" r="textAreaRight" b="textAreaBottom"/>
            <a:pathLst>
              <a:path w="21600" h="21600">
                <a:moveTo>
                  <a:pt x="5323" y="12060"/>
                </a:moveTo>
                <a:cubicBezTo>
                  <a:pt x="5228" y="11647"/>
                  <a:pt x="5180" y="11224"/>
                  <a:pt x="5180" y="10800"/>
                </a:cubicBezTo>
                <a:cubicBezTo>
                  <a:pt x="5180" y="7696"/>
                  <a:pt x="7696" y="5180"/>
                  <a:pt x="10800" y="5180"/>
                </a:cubicBezTo>
                <a:cubicBezTo>
                  <a:pt x="13903" y="5180"/>
                  <a:pt x="16420" y="7696"/>
                  <a:pt x="16420" y="10800"/>
                </a:cubicBezTo>
                <a:cubicBezTo>
                  <a:pt x="16420" y="11224"/>
                  <a:pt x="16371" y="11647"/>
                  <a:pt x="16276" y="12060"/>
                </a:cubicBezTo>
                <a:lnTo>
                  <a:pt x="21324" y="13223"/>
                </a:lnTo>
                <a:cubicBezTo>
                  <a:pt x="21507" y="12428"/>
                  <a:pt x="21600" y="1161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1615"/>
                  <a:pt x="92" y="12428"/>
                  <a:pt x="275" y="13223"/>
                </a:cubicBezTo>
                <a:lnTo>
                  <a:pt x="5323" y="1206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2"/>
          <p:cNvSpPr/>
          <p:nvPr/>
        </p:nvSpPr>
        <p:spPr>
          <a:xfrm>
            <a:off x="4356000" y="4649760"/>
            <a:ext cx="20876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9999"/>
                </a:solidFill>
                <a:latin typeface="Arial"/>
              </a:rPr>
              <a:t>Negativas (punições)</a:t>
            </a:r>
            <a:r>
              <a:rPr b="1" lang="pt-PT" sz="18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9999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3"/>
          <p:cNvSpPr/>
          <p:nvPr/>
        </p:nvSpPr>
        <p:spPr>
          <a:xfrm>
            <a:off x="6805440" y="4649760"/>
            <a:ext cx="2338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9999"/>
                </a:solidFill>
                <a:latin typeface="Arial"/>
              </a:rPr>
              <a:t>Positivas (recompensas)</a:t>
            </a:r>
            <a:r>
              <a:rPr b="1" lang="pt-PT" sz="18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9999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4"/>
          <p:cNvSpPr/>
          <p:nvPr/>
        </p:nvSpPr>
        <p:spPr>
          <a:xfrm>
            <a:off x="6300720" y="393372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solidFill>
            <a:srgbClr val="3333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3300"/>
                </a:solidFill>
                <a:latin typeface="Arial"/>
              </a:rPr>
              <a:t>MEIOS DE COMUNICAÇÃO SOCIAL – SOCIALIZAÇÃO E CONTROL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108000" y="41562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Arial"/>
              </a:rPr>
              <a:t>Divulgam SONDAGENS DE OPI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395280" y="12682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MEIOS DE COMUNIC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6"/>
          <p:cNvSpPr/>
          <p:nvPr/>
        </p:nvSpPr>
        <p:spPr>
          <a:xfrm>
            <a:off x="2411280" y="1628640"/>
            <a:ext cx="865440" cy="216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3419640" y="1341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Agentes de socialização – televisão, jornais, rádio, Interne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924360" y="2637000"/>
            <a:ext cx="3811680" cy="121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2" y="2030"/>
                </a:moveTo>
                <a:lnTo>
                  <a:pt x="22689" y="2030"/>
                </a:lnTo>
                <a:lnTo>
                  <a:pt x="22689" y="-7783"/>
                </a:lnTo>
                <a:lnTo>
                  <a:pt x="7755" y="-10236"/>
                </a:lnTo>
              </a:path>
              <a:path w="21600" h="21600">
                <a:moveTo>
                  <a:pt x="22032" y="0"/>
                </a:moveTo>
                <a:lnTo>
                  <a:pt x="22032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Fontes de informação que, por exemplo, influenciam os hábitos de consumo (moda) através da publicidade que transm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1116000" y="2276640"/>
            <a:ext cx="287280" cy="1800000"/>
          </a:xfrm>
          <a:prstGeom prst="downArrow">
            <a:avLst>
              <a:gd name="adj1" fmla="val 50000"/>
              <a:gd name="adj2" fmla="val 15664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395280" y="4653000"/>
            <a:ext cx="757080" cy="1152360"/>
          </a:xfrm>
          <a:custGeom>
            <a:avLst/>
            <a:gdLst>
              <a:gd name="textAreaLeft" fmla="*/ 101160 w 757080"/>
              <a:gd name="textAreaRight" fmla="*/ 655920 w 757080"/>
              <a:gd name="textAreaTop" fmla="*/ 218520 h 1152360"/>
              <a:gd name="textAreaBottom" fmla="*/ 75132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91" stAng="-5400000" swAng="-5400000"/>
                <a:lnTo>
                  <a:pt x="0" y="9989"/>
                </a:lnTo>
                <a:arcTo wR="21600" hR="8191" stAng="10800000" swAng="-3142411"/>
                <a:lnTo>
                  <a:pt x="15540" y="21271"/>
                </a:lnTo>
                <a:lnTo>
                  <a:pt x="21600" y="17280"/>
                </a:lnTo>
                <a:lnTo>
                  <a:pt x="15540" y="12631"/>
                </a:lnTo>
                <a:lnTo>
                  <a:pt x="15540" y="16052"/>
                </a:lnTo>
                <a:arcTo wR="21600" hR="8191" stAng="7657589" swAng="2998545"/>
                <a:lnTo>
                  <a:pt x="131" y="9089"/>
                </a:lnTo>
                <a:arcTo wR="21600" hR="8191" stAng="-10656134" swAng="5256134"/>
                <a:close/>
              </a:path>
              <a:path fill="darkenLess" w="21600" h="21600">
                <a:moveTo>
                  <a:pt x="21600" y="0"/>
                </a:moveTo>
                <a:arcTo wR="21600" hR="8191" stAng="-5400000" swAng="-5400000"/>
                <a:lnTo>
                  <a:pt x="0" y="8191"/>
                </a:lnTo>
                <a:arcTo wR="21600" hR="8191" stAng="10800000" swAng="-143866"/>
                <a:lnTo>
                  <a:pt x="131" y="9089"/>
                </a:lnTo>
                <a:arcTo wR="21600" hR="8191" stAng="-10656134" swAng="525613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1258920" y="51768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6600"/>
                </a:solidFill>
                <a:latin typeface="Arial"/>
              </a:rPr>
              <a:t>FORMAÇÃO DA OPINIÃO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99"/>
                </a:solidFill>
                <a:latin typeface="Arial"/>
              </a:rPr>
              <a:t>indivíduos  identificam-se com aquilo que se supõe ser a opinião da generalidade da popul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2:08:41Z</dcterms:created>
  <dc:creator>Platano Editora</dc:creator>
  <dc:description/>
  <dc:language>en-US</dc:language>
  <cp:lastModifiedBy>Paula Oliveira</cp:lastModifiedBy>
  <dcterms:modified xsi:type="dcterms:W3CDTF">2020-02-16T19:03:01Z</dcterms:modified>
  <cp:revision>12</cp:revision>
  <dc:subject/>
  <dc:title>UNIDADE 2 Necessidades e Consumo</dc:title>
</cp:coreProperties>
</file>