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C82-5A82-449E-AFC5-8527632BF7B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F5FA-0895-4774-99D1-4432904D5FA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3C3-0F25-48FF-9954-BDCA8E26DA3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1E7A-61AF-417F-A8EB-33A44244F2C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294B-A5D3-49F0-9E07-0DC9488C599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52C-F35C-46C9-BEA9-B7C35491497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BA6F-F2B9-4F7B-B51B-0AC4082A1B5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25AE-8983-4A57-9E58-56E6DFF9E04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CEE-F779-433C-8A33-620A4764276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0E8E-1739-4B4D-8556-C1B74A074BA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730-2FA9-487E-BE8A-9384115C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44F-39DE-4043-BC0B-014D0F5F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E20-F5E8-4F69-9AB0-8B31FA0F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EE6-60DD-4B31-9288-C90B846D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DB9-55E6-434B-9F67-3DF864EA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CE5-8914-4006-8DD9-9CC9157A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10E-CD51-4E30-8DC8-24ECF68C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93C-11D5-4386-BCB9-F89B842F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3AF-7DD4-477D-96E5-68633F31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80C-D8CC-46E1-BDF9-281E1447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877-AD0D-4CB0-B4D9-8065B31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9E2-9BFA-42BC-B546-4079B1E6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A3FB-C743-47B2-A723-2808025C89E9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abula"/>
          <p:cNvPicPr/>
          <p:nvPr/>
        </p:nvPicPr>
        <p:blipFill>
          <a:blip r:embed="rId1"/>
          <a:srcRect l="8824" t="49891" r="1964" b="0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abula 008"/>
          <p:cNvPicPr/>
          <p:nvPr/>
        </p:nvPicPr>
        <p:blipFill>
          <a:blip r:embed="rId1"/>
          <a:srcRect l="8252" t="1794" r="0" b="0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abula 009"/>
          <p:cNvPicPr/>
          <p:nvPr/>
        </p:nvPicPr>
        <p:blipFill>
          <a:blip r:embed="rId1"/>
          <a:srcRect l="0" t="0" r="7714" b="90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fabula 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abula 011"/>
          <p:cNvPicPr/>
          <p:nvPr/>
        </p:nvPicPr>
        <p:blipFill>
          <a:blip r:embed="rId1"/>
          <a:srcRect l="6460" t="9294" r="6328" b="148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fabula 012"/>
          <p:cNvPicPr/>
          <p:nvPr/>
        </p:nvPicPr>
        <p:blipFill>
          <a:blip r:embed="rId1"/>
          <a:srcRect l="5242" t="5892" r="1422" b="101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abula 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abula 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fabula 015"/>
          <p:cNvPicPr/>
          <p:nvPr/>
        </p:nvPicPr>
        <p:blipFill>
          <a:blip r:embed="rId1"/>
          <a:srcRect l="0" t="14357" r="71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fabula 016"/>
          <p:cNvPicPr/>
          <p:nvPr/>
        </p:nvPicPr>
        <p:blipFill>
          <a:blip r:embed="rId1"/>
          <a:srcRect l="500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abula"/>
          <p:cNvPicPr/>
          <p:nvPr/>
        </p:nvPicPr>
        <p:blipFill>
          <a:blip r:embed="rId1"/>
          <a:srcRect l="0" t="989" r="0" b="0"/>
          <a:stretch/>
        </p:blipFill>
        <p:spPr>
          <a:xfrm rot="186000">
            <a:off x="-1080" y="-2880"/>
            <a:ext cx="913896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fabula 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fabula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abula 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fabula 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abula 005"/>
          <p:cNvPicPr/>
          <p:nvPr/>
        </p:nvPicPr>
        <p:blipFill>
          <a:blip r:embed="rId1"/>
          <a:srcRect l="314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abula 006"/>
          <p:cNvPicPr/>
          <p:nvPr/>
        </p:nvPicPr>
        <p:blipFill>
          <a:blip r:embed="rId1"/>
          <a:srcRect l="9236" t="1336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abula 007"/>
          <p:cNvPicPr/>
          <p:nvPr/>
        </p:nvPicPr>
        <p:blipFill>
          <a:blip r:embed="rId1"/>
          <a:srcRect l="0" t="12560" r="717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a Amaro</dc:creator>
  <dc:description/>
  <dc:language>en-US</dc:language>
  <cp:lastModifiedBy>nome</cp:lastModifiedBy>
  <dcterms:modified xsi:type="dcterms:W3CDTF">2015-04-19T10:48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