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852-422A-4E86-BFE3-7D5E7130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EEF-08A3-4267-8906-AD9D7A02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906-DFB7-4848-B324-95ADBEFA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902-2943-43FC-8F1E-59630B00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46C-5465-41CC-8D4A-4BB70C1D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91D-F61E-4222-803B-5FE8AA46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963-B96D-4790-AF75-48742790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391-D621-46C4-86E9-4805614C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487-37D5-47EB-84EB-9BAB4950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BFB-6242-41DF-89C6-64D2DB41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202-F9C7-4664-A507-1C08419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153-4DE6-4A91-AC00-7B6550B8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CAF-1F6D-4616-BFA8-4F3D11560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843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apa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609480" y="592200"/>
            <a:ext cx="8153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ãe, e a minha histó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 tua história és tu quem vai fazer. A tua história somos nós, tu, eu e o teu pai, os teus irmãos, avós, primos, tios, todos os que estão aqui ao teu lado, orgulhosos, a ver-te crescer lindo e fel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1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004360" y="838080"/>
            <a:ext cx="332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ãe, porque me adopta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rque queria ser mã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11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1065600" y="40788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Então, és tu a minha verdadeira Mã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843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763160" y="3124080"/>
            <a:ext cx="384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ãe, gostas de mi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Gosto de ti até ao céu, meu fi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2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66760" y="304920"/>
            <a:ext cx="88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ãe, se eu tivesse estado na tua barriga, gostava mais de mi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ão, meu filho, porque haveria de gostar? Tu estiveste dentro de mi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no meu pensamento e no meu co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- O meu desejo de te ter, de te peg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de ver o teu rosto era tão gr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o uma barriga de grá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371600" y="228600"/>
            <a:ext cx="725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ãe, então tu dizes que gostas tanto de mim, que sou teu filho adoptivo, como do meu irmão, que é teu filho biológic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laro que sim. Quando estava à espera do teu irmão sentia-me muito feliz, porque ia ter um filho; não porque a minha barriga estava a cres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914400" y="19512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Há muitas maneiras de ter filhos: na barriga, no coraçã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ãe, grávida no coração? O coração não tem filh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- Tem filhos sim, e foi lá que tu nasceste, é lá que      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         estás a crescer e onde vais ficar. Para qualquer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         lado aonde vá, levo-te sempre no meu co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57200" y="592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Ah! Então é mais importante ter o amor de uma mãe do que nascer da sua  barri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- Claro, meu filho. Mãe é aquela que chora quando estás doente, que te pega ao colo mesmo quando lhe doem as costas e que te dá o beij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boa-noi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256040" y="457200"/>
            <a:ext cx="72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O Pai não engravida, no entanto, ama os filhos desde o prim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momento, e para semp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7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04920" y="15228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i, mas eu não sou parecido conti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És parecido comigo, sim! Tens o meu nome e és um bocadinho daquilo que eu sou, daquilo que eu gosto, daquilo em que acredito e que respeito. Até falas como e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33520" y="457200"/>
            <a:ext cx="8610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ai, e os gen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Se um dia quiseres ser músico, atleta ou escultor, cantaremos juntos, faremos corridas na praia com os teus irmãos e até encheremos a 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com barro. Tu não precisas saber quais os teus genes. Precisamos é de estar juntos para os descobri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risse Crespo</dc:creator>
  <dc:description/>
  <dc:language>en-US</dc:language>
  <cp:lastModifiedBy>Clarisse Crespo</cp:lastModifiedBy>
  <dcterms:modified xsi:type="dcterms:W3CDTF">2020-04-27T15:27:5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