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28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2F686-78B8-4A7F-B197-57F1783A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8880-5BF1-44B0-8F98-0A8B5AC88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BF77-FFAC-4C0A-8674-7B4B5C5BF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FE48-F770-4345-8F1B-7784CD5D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04A6C-02E9-46F2-BAC6-385989CA3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7396B-EB43-4AE5-B167-1896B11D1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3F7DF-54EC-4743-9754-B32E953FD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A5EE3-1987-45B4-A937-6BF096D8CE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5849-5509-45DF-B933-12AC69F1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4CB1C-4430-43B1-831A-EC8820F1C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60C43-94C2-4CA5-98B2-FAACD392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C59D-8030-4E9F-9048-DB818C88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P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FD1D8-601A-4924-9783-2F34E9B5179B}" type="slidenum">
              <a:rPr b="0" lang="pt-P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H:\Ano Lectivo 2010-11\Gosto de ti\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3" descr="H:\Ano Lectivo 2010-11\Gosto de ti\10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H:\Ano Lectivo 2010-11\Gosto de ti\1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H:\Ano Lectivo 2010-11\Gosto de ti\12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:\Ano Lectivo 2010-11\Gosto de ti\13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3" descr="H:\Ano Lectivo 2010-11\Gosto de ti\14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H:\Ano Lectivo 2010-11\Gosto de ti\15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H:\Ano Lectivo 2010-11\Gosto de ti\17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H:\Ano Lectivo 2010-11\Gosto de ti\1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:\Ano Lectivo 2010-11\Gosto de ti\18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2" descr="H:\Ano Lectivo 2010-11\Gosto de ti\19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H:\Ano Lectivo 2010-11\Gosto de ti\2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H:\Ano Lectivo 2010-11\Gosto de ti\20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H:\Ano Lectivo 2010-11\Gosto de ti\21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2" descr="H:\Ano Lectivo 2010-11\Gosto de ti\22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3" descr="H:\Ano Lectivo 2010-11\Gosto de ti\23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H:\Ano Lectivo 2010-11\Gosto de ti\24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2" descr="H:\Ano Lectivo 2010-11\Gosto de ti\25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Picture 2" descr="H:\Ano Lectivo 2010-11\Gosto de ti\2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H:\Ano Lectivo 2010-11\Gosto de ti\27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H:\Ano Lectivo 2010-11\Gosto de ti\28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CaixaDeTexto 3"/>
          <p:cNvSpPr/>
          <p:nvPr/>
        </p:nvSpPr>
        <p:spPr>
          <a:xfrm>
            <a:off x="2448000" y="5589720"/>
            <a:ext cx="66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4400" spc="-1" strike="noStrike">
                <a:solidFill>
                  <a:srgbClr val="262626"/>
                </a:solidFill>
                <a:latin typeface="Curlz MT"/>
              </a:rPr>
              <a:t>Gosto de ti……………………………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3" descr="H:\Ano Lectivo 2010-11\Gosto de ti\3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H:\Ano Lectivo 2010-11\Gosto de ti\4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H:\Ano Lectivo 2010-11\Gosto de ti\5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H:\Ano Lectivo 2010-11\Gosto de ti\6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H:\Ano Lectivo 2010-11\Gosto de ti\7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H:\Ano Lectivo 2010-11\Gosto de ti\8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H:\Ano Lectivo 2010-11\Gosto de ti\9.jpg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6T14:57:10Z</dcterms:created>
  <dc:creator>Windows User</dc:creator>
  <dc:description/>
  <dc:language>en-US</dc:language>
  <cp:lastModifiedBy>Windows User</cp:lastModifiedBy>
  <dcterms:modified xsi:type="dcterms:W3CDTF">2011-02-02T22:44:02Z</dcterms:modified>
  <cp:revision>7</cp:revision>
  <dc:subject/>
  <dc:title>Diapositivo 1</dc:title>
</cp:coreProperties>
</file>