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2.png" ContentType="image/png"/>
  <Override PartName="/ppt/media/image24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5.png" ContentType="image/png"/>
  <Override PartName="/ppt/media/image10.jpeg" ContentType="image/jpeg"/>
  <Override PartName="/ppt/media/image29.jpeg" ContentType="image/jpeg"/>
  <Override PartName="/ppt/media/image8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13.jpeg" ContentType="image/jpeg"/>
  <Override PartName="/ppt/media/image33.png" ContentType="image/png"/>
  <Override PartName="/ppt/media/image14.jpeg" ContentType="image/jpeg"/>
  <Override PartName="/ppt/media/image34.png" ContentType="image/png"/>
  <Override PartName="/ppt/media/image12.jpeg" ContentType="image/jpeg"/>
  <Override PartName="/ppt/media/image35.png" ContentType="image/png"/>
  <Override PartName="/ppt/media/image5.jpeg" ContentType="image/jpeg"/>
  <Override PartName="/ppt/media/image26.jpeg" ContentType="image/jpeg"/>
  <Override PartName="/ppt/media/image17.png" ContentType="image/png"/>
  <Override PartName="/ppt/media/image32.jpeg" ContentType="image/jpeg"/>
  <Override PartName="/ppt/media/image36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20.png" ContentType="image/png"/>
  <Override PartName="/ppt/media/image2.jpeg" ContentType="image/jpeg"/>
  <Override PartName="/ppt/media/image23.jpeg" ContentType="image/jpeg"/>
  <Override PartName="/ppt/media/image1.jpeg" ContentType="image/jpeg"/>
  <Override PartName="/ppt/media/image1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D2F67-E06D-48CD-9ECF-F9D0F457BF5A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788BA-67C5-4EC2-BA87-7744C24AB05E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2E1F6-E0C1-404B-833A-2BDC4B525952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41631-67A0-4680-9E15-1377F4F89D8C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AE5E4-0C52-4A1C-B151-866AF8FBB765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4BEE-1BEE-4F70-B572-87123AD1E8CC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9E495-69EA-45AF-86A3-E0D9EDA696CE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F22F4-CA26-48F5-A34E-1A49F7CAAB9C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26F7F-55BD-4EDE-9482-A820FA1D0B96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4E05C-8064-4238-842D-493EC2C8087A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2F9FF-1EDC-40DB-936C-67C05B0D6C9C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B419E-7936-4FA3-BF8B-106036C455B9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A92A7-ABFF-4DF7-8750-949F60B924A6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82C8B-C98B-4E9C-A01D-F068122B5088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1DD7AB-9128-4F0D-8AE3-A3A949ADB272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57DFD-FC03-4361-9FAD-4A79418D1724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432CA-CEAD-49A8-B07B-F748FA7B7E5B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D6FC0-A021-49BA-B3A2-54B41FE61F65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F124-18D2-49CA-B010-B17DF335EA5C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F2C5C0-B003-4930-8CAD-AED96B103332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3191E-DE7C-4D62-864B-A49EDB36E701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047DC-F1E1-4842-8D90-02D0B72CFE65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CE7D-F1EB-454F-AD3A-765CE7CA5961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B84C31-975C-46AF-8BCF-DBECC038DB6C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2F1C3-C3F2-468E-B9E4-60598347DF44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D0917-06A3-4AC1-9739-F78029CD84C7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P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Marcador de Posição do Número do Diapositivo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A2DC-94FA-41A4-AA20-CA8D58680F28}" type="slidenum">
              <a:rPr b="0" lang="pt-P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6C83A-EB99-4FE1-ABED-6EE6C5C21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62B8-3CA9-4970-8FFC-124B39A67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38AC-BCBC-4AEF-9C46-F573DDA6C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0BFB-3CE4-4406-9A4F-A7C2F542C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4B5FC-8BD7-4308-B8CC-95C92A8CB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4BC57-9825-4BF6-B1CB-F8CEC1B23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BA6E-6CC1-48DB-AD7A-6F83D5745E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054DA-EA4C-4C92-AC11-DAE95E613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F4CF7-E91C-49FA-B7BB-E7D9D1B66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0253-7CB8-4099-90A1-876D5CB36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8248-4E56-4DA1-8187-65A55B2B4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20013-2125-4D67-844A-D51CE9818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F7C18-44C8-4C6F-8BFF-A00441848E55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3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Imagem 6" descr="beijinho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G:\Ano Lectivo 2009-10\BeijinhosBeijinhos\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G:\Ano Lectivo 2009-10\BeijinhosBeijinhos\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G:\Ano Lectivo 2009-10\BeijinhosBeijinhos\f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G:\Ano Lectivo 2009-10\BeijinhosBeijinhos\7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G:\Ano Lectivo 2009-10\BeijinhosBeijinhos\digitalizar000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62" name="Coração 2"/>
          <p:cNvGrpSpPr/>
          <p:nvPr/>
        </p:nvGrpSpPr>
        <p:grpSpPr>
          <a:xfrm>
            <a:off x="7113600" y="1828800"/>
            <a:ext cx="493560" cy="414360"/>
            <a:chOff x="7113600" y="1828800"/>
            <a:chExt cx="493560" cy="414360"/>
          </a:xfrm>
        </p:grpSpPr>
        <p:pic>
          <p:nvPicPr>
            <p:cNvPr id="63" name="Coração 2" descr=""/>
            <p:cNvPicPr/>
            <p:nvPr/>
          </p:nvPicPr>
          <p:blipFill>
            <a:blip r:embed="rId2"/>
            <a:stretch/>
          </p:blipFill>
          <p:spPr>
            <a:xfrm>
              <a:off x="7113600" y="1828800"/>
              <a:ext cx="493560" cy="4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" name=""/>
            <p:cNvSpPr/>
            <p:nvPr/>
          </p:nvSpPr>
          <p:spPr>
            <a:xfrm rot="4762800">
              <a:off x="7273440" y="1947600"/>
              <a:ext cx="200160" cy="15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5" name="Coração 4"/>
          <p:cNvGrpSpPr/>
          <p:nvPr/>
        </p:nvGrpSpPr>
        <p:grpSpPr>
          <a:xfrm>
            <a:off x="8004240" y="1706400"/>
            <a:ext cx="457200" cy="408240"/>
            <a:chOff x="8004240" y="1706400"/>
            <a:chExt cx="457200" cy="408240"/>
          </a:xfrm>
        </p:grpSpPr>
        <p:pic>
          <p:nvPicPr>
            <p:cNvPr id="66" name="Coração 4" descr=""/>
            <p:cNvPicPr/>
            <p:nvPr/>
          </p:nvPicPr>
          <p:blipFill>
            <a:blip r:embed="rId3"/>
            <a:stretch/>
          </p:blipFill>
          <p:spPr>
            <a:xfrm>
              <a:off x="8004240" y="1706400"/>
              <a:ext cx="457200" cy="4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" name=""/>
            <p:cNvSpPr/>
            <p:nvPr/>
          </p:nvSpPr>
          <p:spPr>
            <a:xfrm rot="3860400">
              <a:off x="8133480" y="1843920"/>
              <a:ext cx="19512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Coração 5"/>
          <p:cNvGrpSpPr/>
          <p:nvPr/>
        </p:nvGrpSpPr>
        <p:grpSpPr>
          <a:xfrm>
            <a:off x="8540640" y="1231920"/>
            <a:ext cx="603360" cy="584280"/>
            <a:chOff x="8540640" y="1231920"/>
            <a:chExt cx="603360" cy="584280"/>
          </a:xfrm>
        </p:grpSpPr>
        <p:pic>
          <p:nvPicPr>
            <p:cNvPr id="69" name="Coração 5" descr=""/>
            <p:cNvPicPr/>
            <p:nvPr/>
          </p:nvPicPr>
          <p:blipFill>
            <a:blip r:embed="rId4"/>
            <a:stretch/>
          </p:blipFill>
          <p:spPr>
            <a:xfrm>
              <a:off x="8540640" y="1231920"/>
              <a:ext cx="603360" cy="58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 rot="2076600">
              <a:off x="8633880" y="1441440"/>
              <a:ext cx="34956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edg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G:\Ano Lectivo 2009-10\BeijinhosBeijinhos\digitalizar0002.jpg"/>
          <p:cNvPicPr/>
          <p:nvPr/>
        </p:nvPicPr>
        <p:blipFill>
          <a:blip r:embed="rId1"/>
          <a:stretch/>
        </p:blipFill>
        <p:spPr>
          <a:xfrm>
            <a:off x="0" y="-9360"/>
            <a:ext cx="9144000" cy="6876720"/>
          </a:xfrm>
          <a:prstGeom prst="rect">
            <a:avLst/>
          </a:prstGeom>
          <a:ln w="0">
            <a:noFill/>
          </a:ln>
        </p:spPr>
      </p:pic>
      <p:grpSp>
        <p:nvGrpSpPr>
          <p:cNvPr id="72" name="Coração 2"/>
          <p:cNvGrpSpPr/>
          <p:nvPr/>
        </p:nvGrpSpPr>
        <p:grpSpPr>
          <a:xfrm>
            <a:off x="152280" y="1073160"/>
            <a:ext cx="706680" cy="646200"/>
            <a:chOff x="152280" y="1073160"/>
            <a:chExt cx="706680" cy="646200"/>
          </a:xfrm>
        </p:grpSpPr>
        <p:pic>
          <p:nvPicPr>
            <p:cNvPr id="73" name="Coração 2" descr=""/>
            <p:cNvPicPr/>
            <p:nvPr/>
          </p:nvPicPr>
          <p:blipFill>
            <a:blip r:embed="rId2"/>
            <a:stretch/>
          </p:blipFill>
          <p:spPr>
            <a:xfrm>
              <a:off x="152280" y="1073160"/>
              <a:ext cx="706680" cy="64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 rot="850800">
              <a:off x="288720" y="1265400"/>
              <a:ext cx="398160" cy="21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5" name="Coração 3"/>
          <p:cNvGrpSpPr/>
          <p:nvPr/>
        </p:nvGrpSpPr>
        <p:grpSpPr>
          <a:xfrm>
            <a:off x="847800" y="1584360"/>
            <a:ext cx="530280" cy="536400"/>
            <a:chOff x="847800" y="1584360"/>
            <a:chExt cx="530280" cy="536400"/>
          </a:xfrm>
        </p:grpSpPr>
        <p:pic>
          <p:nvPicPr>
            <p:cNvPr id="76" name="Coração 3" descr=""/>
            <p:cNvPicPr/>
            <p:nvPr/>
          </p:nvPicPr>
          <p:blipFill>
            <a:blip r:embed="rId3"/>
            <a:stretch/>
          </p:blipFill>
          <p:spPr>
            <a:xfrm>
              <a:off x="847800" y="1584360"/>
              <a:ext cx="530280" cy="53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 rot="19231800">
              <a:off x="1004760" y="1773000"/>
              <a:ext cx="293760" cy="17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Coração 4"/>
          <p:cNvGrpSpPr/>
          <p:nvPr/>
        </p:nvGrpSpPr>
        <p:grpSpPr>
          <a:xfrm>
            <a:off x="1547640" y="1859040"/>
            <a:ext cx="457200" cy="439560"/>
            <a:chOff x="1547640" y="1859040"/>
            <a:chExt cx="457200" cy="439560"/>
          </a:xfrm>
        </p:grpSpPr>
        <p:pic>
          <p:nvPicPr>
            <p:cNvPr id="79" name="Coração 4" descr=""/>
            <p:cNvPicPr/>
            <p:nvPr/>
          </p:nvPicPr>
          <p:blipFill>
            <a:blip r:embed="rId4"/>
            <a:stretch/>
          </p:blipFill>
          <p:spPr>
            <a:xfrm>
              <a:off x="1547640" y="1859040"/>
              <a:ext cx="45720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 rot="18169200">
              <a:off x="1683000" y="2012040"/>
              <a:ext cx="222480" cy="14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1" name="Coração 5"/>
          <p:cNvGrpSpPr/>
          <p:nvPr/>
        </p:nvGrpSpPr>
        <p:grpSpPr>
          <a:xfrm>
            <a:off x="2036880" y="2054160"/>
            <a:ext cx="420480" cy="407880"/>
            <a:chOff x="2036880" y="2054160"/>
            <a:chExt cx="420480" cy="407880"/>
          </a:xfrm>
        </p:grpSpPr>
        <p:pic>
          <p:nvPicPr>
            <p:cNvPr id="82" name="Coração 5" descr=""/>
            <p:cNvPicPr/>
            <p:nvPr/>
          </p:nvPicPr>
          <p:blipFill>
            <a:blip r:embed="rId5"/>
            <a:stretch/>
          </p:blipFill>
          <p:spPr>
            <a:xfrm>
              <a:off x="2036880" y="2054160"/>
              <a:ext cx="420480" cy="407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 rot="17261400">
              <a:off x="2151720" y="2189520"/>
              <a:ext cx="195480" cy="12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wedg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G:\Ano Lectivo 2009-10\BeijinhosBeijinhos\i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2" descr="G:\Ano Lectivo 2009-10\BeijinhosBeijinhos\8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G:\Ano Lectivo 2009-10\BeijinhosBeijinhos\j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G:\Ano Lectivo 2009-10\BeijinhosBeijinhos\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G:\Ano Lectivo 2009-10\BeijinhosBeijinhos\1 001.jpg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3" descr="G:\Ano Lectivo 2009-10\BeijinhosBeijinhos\l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G:\Ano Lectivo 2009-10\BeijinhosBeijinhos\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2" descr="G:\Ano Lectivo 2009-10\BeijinhosBeijinhos\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G:\Ano Lectivo 2009-10\BeijinhosBeijinhos\1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G:\Ano Lectivo 2009-10\BeijinhosBeijinhos\n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2" descr="G:\Ano Lectivo 2009-10\BeijinhosBeijinhos\1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b9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Coração 1"/>
          <p:cNvSpPr/>
          <p:nvPr/>
        </p:nvSpPr>
        <p:spPr>
          <a:xfrm>
            <a:off x="428760" y="214200"/>
            <a:ext cx="8358120" cy="6429600"/>
          </a:xfrm>
          <a:custGeom>
            <a:avLst/>
            <a:gdLst>
              <a:gd name="textAreaLeft" fmla="*/ 1392840 w 8358120"/>
              <a:gd name="textAreaRight" fmla="*/ 6965280 w 8358120"/>
              <a:gd name="textAreaTop" fmla="*/ 1607400 h 6429600"/>
              <a:gd name="textAreaBottom" fmla="*/ 4286520 h 6429600"/>
            </a:gdLst>
            <a:ahLst/>
            <a:rect l="textAreaLeft" t="textAreaTop" r="textAreaRight" b="textAreaBottom"/>
            <a:pathLst>
              <a:path w="8358188" h="6429375">
                <a:moveTo>
                  <a:pt x="4179094" y="1607344"/>
                </a:moveTo>
                <a:cubicBezTo>
                  <a:pt x="5920383" y="-2143125"/>
                  <a:pt x="12711411" y="1607344"/>
                  <a:pt x="4179094" y="6429375"/>
                </a:cubicBezTo>
                <a:cubicBezTo>
                  <a:pt x="-4353223" y="1607344"/>
                  <a:pt x="2437805" y="-2143125"/>
                  <a:pt x="4179094" y="1607344"/>
                </a:cubicBezTo>
                <a:close/>
              </a:path>
            </a:pathLst>
          </a:custGeom>
          <a:solidFill>
            <a:srgbClr val="c0504d"/>
          </a:solidFill>
          <a:ln w="25560">
            <a:solidFill>
              <a:srgbClr val="8c383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Rectângulo 2" descr=""/>
          <p:cNvPicPr/>
          <p:nvPr/>
        </p:nvPicPr>
        <p:blipFill>
          <a:blip r:embed="rId1"/>
          <a:stretch/>
        </p:blipFill>
        <p:spPr>
          <a:xfrm>
            <a:off x="463680" y="828720"/>
            <a:ext cx="3846240" cy="1774800"/>
          </a:xfrm>
          <a:prstGeom prst="rect">
            <a:avLst/>
          </a:prstGeom>
          <a:ln w="0">
            <a:noFill/>
          </a:ln>
        </p:spPr>
      </p:pic>
      <p:pic>
        <p:nvPicPr>
          <p:cNvPr id="96" name="Rectângulo 3" descr=""/>
          <p:cNvPicPr/>
          <p:nvPr/>
        </p:nvPicPr>
        <p:blipFill>
          <a:blip r:embed="rId2"/>
          <a:stretch/>
        </p:blipFill>
        <p:spPr>
          <a:xfrm>
            <a:off x="3852720" y="1755720"/>
            <a:ext cx="4486320" cy="1773360"/>
          </a:xfrm>
          <a:prstGeom prst="rect">
            <a:avLst/>
          </a:prstGeom>
          <a:ln w="0">
            <a:noFill/>
          </a:ln>
        </p:spPr>
      </p:pic>
      <p:pic>
        <p:nvPicPr>
          <p:cNvPr id="97" name="Rectângulo 4" descr=""/>
          <p:cNvPicPr/>
          <p:nvPr/>
        </p:nvPicPr>
        <p:blipFill>
          <a:blip r:embed="rId3"/>
          <a:stretch/>
        </p:blipFill>
        <p:spPr>
          <a:xfrm>
            <a:off x="1603440" y="2755800"/>
            <a:ext cx="4626000" cy="1773360"/>
          </a:xfrm>
          <a:prstGeom prst="rect">
            <a:avLst/>
          </a:prstGeom>
          <a:ln w="0">
            <a:noFill/>
          </a:ln>
        </p:spPr>
      </p:pic>
      <p:pic>
        <p:nvPicPr>
          <p:cNvPr id="98" name="Rectângulo 5" descr=""/>
          <p:cNvPicPr/>
          <p:nvPr/>
        </p:nvPicPr>
        <p:blipFill>
          <a:blip r:embed="rId4"/>
          <a:stretch/>
        </p:blipFill>
        <p:spPr>
          <a:xfrm>
            <a:off x="2000160" y="3828960"/>
            <a:ext cx="5143680" cy="1773360"/>
          </a:xfrm>
          <a:prstGeom prst="rect">
            <a:avLst/>
          </a:prstGeom>
          <a:ln w="0">
            <a:noFill/>
          </a:ln>
        </p:spPr>
      </p:pic>
      <p:sp>
        <p:nvSpPr>
          <p:cNvPr id="99" name="Coração 6"/>
          <p:cNvSpPr/>
          <p:nvPr/>
        </p:nvSpPr>
        <p:spPr>
          <a:xfrm rot="20128800">
            <a:off x="781200" y="5584680"/>
            <a:ext cx="500040" cy="428760"/>
          </a:xfrm>
          <a:custGeom>
            <a:avLst/>
            <a:gdLst>
              <a:gd name="textAreaLeft" fmla="*/ 83160 w 500040"/>
              <a:gd name="textAreaRight" fmla="*/ 416880 w 500040"/>
              <a:gd name="textAreaTop" fmla="*/ 106920 h 428760"/>
              <a:gd name="textAreaBottom" fmla="*/ 285840 h 428760"/>
            </a:gdLst>
            <a:ahLst/>
            <a:rect l="textAreaLeft" t="textAreaTop" r="textAreaRight" b="textAreaBottom"/>
            <a:pathLst>
              <a:path w="500063" h="428625">
                <a:moveTo>
                  <a:pt x="250032" y="107156"/>
                </a:moveTo>
                <a:cubicBezTo>
                  <a:pt x="354211" y="-142875"/>
                  <a:pt x="760512" y="107156"/>
                  <a:pt x="250032" y="428625"/>
                </a:cubicBezTo>
                <a:cubicBezTo>
                  <a:pt x="-260449" y="107156"/>
                  <a:pt x="145852" y="-142875"/>
                  <a:pt x="250032" y="107156"/>
                </a:cubicBez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767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Coração 7"/>
          <p:cNvSpPr/>
          <p:nvPr/>
        </p:nvSpPr>
        <p:spPr>
          <a:xfrm rot="1738200">
            <a:off x="7853040" y="5655960"/>
            <a:ext cx="500040" cy="428400"/>
          </a:xfrm>
          <a:custGeom>
            <a:avLst/>
            <a:gdLst>
              <a:gd name="textAreaLeft" fmla="*/ 83160 w 500040"/>
              <a:gd name="textAreaRight" fmla="*/ 416880 w 500040"/>
              <a:gd name="textAreaTop" fmla="*/ 106920 h 428400"/>
              <a:gd name="textAreaBottom" fmla="*/ 285840 h 428400"/>
            </a:gdLst>
            <a:ahLst/>
            <a:rect l="textAreaLeft" t="textAreaTop" r="textAreaRight" b="textAreaBottom"/>
            <a:pathLst>
              <a:path w="500062" h="428625">
                <a:moveTo>
                  <a:pt x="250031" y="107156"/>
                </a:moveTo>
                <a:cubicBezTo>
                  <a:pt x="354211" y="-142875"/>
                  <a:pt x="760511" y="107156"/>
                  <a:pt x="250031" y="428625"/>
                </a:cubicBezTo>
                <a:cubicBezTo>
                  <a:pt x="-260449" y="107156"/>
                  <a:pt x="145851" y="-142875"/>
                  <a:pt x="250031" y="107156"/>
                </a:cubicBezTo>
                <a:close/>
              </a:path>
            </a:pathLst>
          </a:custGeom>
          <a:gradFill rotWithShape="0">
            <a:gsLst>
              <a:gs pos="0">
                <a:srgbClr val="9b2d2a"/>
              </a:gs>
              <a:gs pos="100000">
                <a:srgbClr val="ce3b37"/>
              </a:gs>
            </a:gsLst>
            <a:lin ang="14460000"/>
          </a:gradFill>
          <a:ln w="9360">
            <a:solidFill>
              <a:srgbClr val="be4b48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wedg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G:\Ano Lectivo 2009-10\BeijinhosBeijinhos\2.jpg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2776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G:\Ano Lectivo 2009-10\BeijinhosBeijinhos\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G:\Ano Lectivo 2009-10\BeijinhosBeijinhos\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G:\Ano Lectivo 2009-10\BeijinhosBeijinhos\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G:\Ano Lectivo 2009-10\BeijinhosBeijinhos\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G:\Ano Lectivo 2009-10\BeijinhosBeijinhos\c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G:\Ano Lectivo 2009-10\BeijinhosBeijinhos\d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 spd="med">
    <p:wedg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9T22:27:35Z</dcterms:created>
  <dc:creator>Windows User</dc:creator>
  <dc:description/>
  <dc:language>en-US</dc:language>
  <cp:lastModifiedBy>Teresa Beja</cp:lastModifiedBy>
  <dcterms:modified xsi:type="dcterms:W3CDTF">2013-10-04T14:32:56Z</dcterms:modified>
  <cp:revision>6</cp:revision>
  <dc:subject/>
  <dc:title>Diapositivo 1</dc:title>
</cp:coreProperties>
</file>