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3BAA-E2C1-4EAF-B948-05AB5601A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38D8-CBBA-4358-BB76-1D0FF0003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600648-1BF7-47EE-8B73-566C159FC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25D10A-B9FF-45CF-B795-B81027F1D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088E8E-0D70-4130-9691-8656C91BA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DA1CA9-9A52-42B5-AFEF-66ACF0857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208858-6CD4-4C58-8FBE-441E0E171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CB45BC-CE33-42FA-97CB-F080D780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FC2EDA-0A20-432D-984B-5949AA04A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6230D2-D09C-4652-ACBE-32C904DD2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0E96F0-991B-45DF-82F3-088C74EBD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EE07C7-4722-42BE-8578-76A4B93E7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5E87-716D-4E7D-A2EB-0D4F1376A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53D957-ED04-484D-A858-568CEBAFB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A914C2-6A21-46B1-93E6-BCCD82F41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533434-7348-4240-A8E8-72A1EC266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500418-DC7C-4415-AF76-191E00127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7695F1-2C7E-4B09-A760-B44B7C9BB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6C59C5-8B17-4934-9941-06B475958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237F11-8F9A-4637-A741-F3E5FFC1D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0E0197-C70B-4179-B85B-34033668C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658CE6-E015-46DD-8820-339DE5DC9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2CB2BC-B5F1-4FE5-9003-18D6E19A8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EF7B-CC52-4045-A34A-DF279A575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775942-BF60-4105-B34E-3C236F0FC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9D44B0-9E63-49B5-8896-B1970735B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25DF48-76BA-46B4-9759-48998E57D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1D6BC5-367E-4A9A-9B2F-F4EE8AEE3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296B8E-D0C7-46AA-BC3F-3DA14A672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CF09A4-DB40-4D2E-9107-4CC2F26BD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6253D9-396D-47A8-B579-4799DF72A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A74920-C2E1-4B2D-A4C3-E3F74D4A4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9A3C5E-4634-4277-BB2D-118FFC1A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4921CD-056B-4B91-AAAE-E71AAD394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06A0C-7E9F-4191-BA6C-976ABD5FC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4B8CB8-9498-420F-B834-674E851C9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2A13FC-A61C-49CC-BDAD-55C40D918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3F72B3-7FC1-4417-BC1C-CFC163A23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C093C0-2F56-4088-A1CD-2658DA77B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32A9B3-8F47-4D8F-A086-EE8680B40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E012F3-E87B-40D1-A9A1-2EF50B606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16D621-BCC3-4BAD-A88B-CA5FC2E10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B564C5-6FBB-4707-B665-BD2F7FF0F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540EBA-2775-4DC8-9D45-F23313202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D5A66F-5928-41D5-8341-31F09EE68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8C85F-E2D5-4BAF-8C66-0B8D929A8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3DC192-A3E2-4917-8359-3745A9D5F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20736E-2AE3-41FE-B419-A27545E3B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A97C2A-B9EC-4A00-AE71-0D1AFD163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7D3157-D2E3-4B12-BB8D-29F204B1F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5F5D26-DB5A-4723-8310-F469E86B0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9B67B-2906-4786-9BE4-6AECD85E6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6E73F-ECFA-4C47-B6A4-6F205DA48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B516A-4D3F-4237-885D-FC8735D33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A1925-2A7F-40D4-8D95-9A0773F9B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DB2CB-BF9B-48AC-947F-90EF4CBCD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B412-D183-4F67-AE1A-E4FD1CD5D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21863-6F81-463C-80B0-444AB78E6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EECC6-AD36-4851-A8F7-02E81B275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7026E-76CC-4820-9D46-4B50B72FF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8E5AA-3B8C-405B-9643-5EF584834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FE007-2312-44ED-AE67-57DBD4BBE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9C95B-1302-4619-B7D1-56F3B6FF4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71D0B-EDA9-4D41-8519-9E540AD3B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47F38-1757-4F2F-B555-8A3E0DA47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2A708-C98E-445E-8E6D-110067F5F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D83FB-87E4-44FA-9654-DB7C87CDC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8EB4-5D9E-468B-9B7C-7213CC0DE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712C1-ADEB-4D6B-BFDA-7A2414AC7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E376A-C4E8-450B-8BDA-D56993976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BD50E-1097-4284-980B-E5E4CDEF9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54BF8-B34A-40BD-84ED-0C0AB9FFF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0A417-D6B6-4831-AE63-E2B5D4775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EC568-2579-4A8E-8E50-12A8157A2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61107-5667-4B9D-A1F6-4705D69B5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95BC3-FD12-42DE-968D-5251151C7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2FAFE-DC1A-4F6A-8117-07DBA8D62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6620C-BB71-4C41-8084-3652EC297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0BD0-33F3-44EC-B37C-181C2364B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F7117-CFB0-42BA-9E69-8E354FD45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CF430-0ACA-4F29-94BA-ACCEF0263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1CA25-09B6-4287-AECF-09D7BCA0B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34965C-F4EA-49E6-81C1-F7EBD0C97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4A913-19D2-4C86-B883-0E8A9FA1C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9BF02-A1C8-49A9-98BC-6A78F275D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E005B-CE10-4EE8-92F0-92227193D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8E93C-FE28-439F-95A6-95F0EA006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41973-726E-405C-8C29-F688B176B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4B9FCA-D611-4ABA-BD9D-F47504DDF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DB64-A4A3-4E18-A349-2AB4ECBD3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8BB16B-DA6B-40B5-B47F-D3497CE60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DD426E-4AE7-4BBC-AC2B-546C51C47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8F8620-9B69-440E-B28F-EC317D3F9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4B9F98-73B6-4D07-998D-AA1C96D54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80BA84-256C-4B0A-9898-52BF68BA8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82E27F-E0D8-43E5-8267-1EA8A77F3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A09621-A45D-4274-9F85-2B1DB2BD7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1EA49E-4A07-4FDE-8E31-D67F17DD7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338D76-C9E4-4EB4-9315-C13631F30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46A441-4C52-4031-BD44-DDCD1B4CE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8DD2-3D6B-4FD7-A262-9A1ABDF01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C9F0F7-C3A8-4857-82EF-23893D81F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5F1822-F866-4875-B2D5-5AD139C9B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73F0BA-610E-407D-BBE9-A6FF4A8AD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881733-61E0-4947-9A70-7DB60643E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C87C0D-0B43-4D3C-9178-0C6BC2C55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626DA2-24C4-4845-A79F-F9546902B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90E091-B52D-424D-AB3A-FE11C9A90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1A8B16-D771-411F-8BD2-00DCF771F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E96A5E-8B23-4E0F-B575-4C8B9EDAA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BBC86F-FD0A-43CD-99D9-48D816AA5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D3BB-44E0-4F39-8987-C34ADB9F2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5E966A-70C7-4087-A9A9-4128D0139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24BD40-8C3F-433A-B99D-BC17BDDC4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CB12D7-E377-4811-A6AF-5DCB2425C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33DB1D-282C-4691-8119-294498435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26D494-CBDB-4AF4-B64A-732FF07D5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4AB11B-6108-4656-8221-0B9E6B8E6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34CEA7-F60B-49B7-926F-094DF7C5C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1D1F52-3B21-445B-B72A-2EADC9DE6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BD8F2B-24FF-4B78-846B-3B03E7FC0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81C171-5A7D-469A-9A17-A5D3F1A47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7C92-C133-4113-A30D-08BC4DF08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7B4D92-4B37-41E7-BB3C-A5F1A2FFC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C8B91C-6924-47C1-A0AC-D1F91475E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0F8E30-165E-4D80-8FB6-393AB4195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B2084D-5B53-4E22-BE53-CED713EEC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334FB3-DDBE-4E7C-B647-98CDC0EB2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5CBB37-97FC-4FAD-9E60-858458EEE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E03F94-29BF-45EF-AA20-0885E9BF3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8BC6F8-8089-4607-B0F0-DA067B2D6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8714B5-802F-4F6F-96B6-1B3F62046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2FC6D3-0252-4863-86EF-E262C668F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60E5-ABF6-41A1-B18E-C19ED0C5C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D4B961-E032-48D4-9F34-7FE84E861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BD0636-9198-4A13-9BF3-14045B157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770C65-F47E-4132-AB4C-32D0AC840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94A60A-8F23-4F2E-BE31-56D0E0E1B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E472C9-1C06-4AAF-BEDE-43B97CEB7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2679F0-0F24-454E-8F39-6404551D2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2B40E0-F79D-47AC-8E36-8878B7885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6225A7-096A-4557-BBCE-F580B8A12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1B58B3-6358-4611-9E20-4C5BFBB4F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F8A0B3-FBC1-4EF7-85A8-625076EF3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71313-6705-4235-9846-903AF4445FE5}" type="slidenum">
              <a:rPr b="0" lang="pt-P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D5935-05FB-4DF5-9774-43333900C942}" type="slidenum">
              <a:rPr b="0" lang="pt-P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330AB-5B6D-4947-AB0C-5824C60192C0}" type="slidenum">
              <a:rPr b="0" lang="pt-P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1A90E-C167-40BB-BC37-D26D009FAECC}" type="slidenum">
              <a:rPr b="0" lang="pt-P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41C91-8E53-46B0-A56F-AACD54357079}" type="slidenum">
              <a:rPr b="0" lang="pt-P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D346E-21F7-490A-8FDE-AFBDF9474C5D}" type="slidenum">
              <a:rPr b="0" lang="pt-P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101BB-ADA8-450E-B307-9A3AD676D47B}" type="slidenum">
              <a:rPr b="0" lang="pt-P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11DDB-7768-4C67-9355-9B5D9E9CC652}" type="slidenum">
              <a:rPr b="0" lang="pt-P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3C447-03FE-46D8-95A5-B1A5ABEDB095}" type="slidenum">
              <a:rPr b="0" lang="pt-P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5EA9F-EE7D-4800-B38F-2F090ADB5901}" type="slidenum">
              <a:rPr b="0" lang="pt-P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730EF-7933-4F23-8A6D-9B6C1BC291A6}" type="slidenum">
              <a:rPr b="0" lang="pt-P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9C8A3-A97B-44A1-B3E3-F0C4C9CD818A}" type="slidenum">
              <a:rPr b="0" lang="pt-P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81080" y="-171360"/>
            <a:ext cx="9506160" cy="7372440"/>
          </a:xfrm>
          <a:prstGeom prst="rect">
            <a:avLst/>
          </a:prstGeom>
          <a:ln w="0">
            <a:noFill/>
          </a:ln>
        </p:spPr>
      </p:pic>
      <p:sp>
        <p:nvSpPr>
          <p:cNvPr id="493" name="Text Box 9"/>
          <p:cNvSpPr/>
          <p:nvPr/>
        </p:nvSpPr>
        <p:spPr>
          <a:xfrm>
            <a:off x="0" y="2924280"/>
            <a:ext cx="24112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cf715"/>
                </a:solidFill>
                <a:latin typeface="Comic Sans MS"/>
              </a:rPr>
              <a:t>Ilustrações  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cf715"/>
                </a:solidFill>
                <a:latin typeface="Comic Sans MS"/>
              </a:rPr>
              <a:t>Frédéric Rébén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Text Box 10"/>
          <p:cNvSpPr/>
          <p:nvPr/>
        </p:nvSpPr>
        <p:spPr>
          <a:xfrm>
            <a:off x="6516720" y="2852640"/>
            <a:ext cx="2266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cf715"/>
                </a:solidFill>
                <a:latin typeface="Comic Sans MS"/>
              </a:rPr>
              <a:t>Texto  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cf715"/>
                </a:solidFill>
                <a:latin typeface="Comic Sans MS"/>
              </a:rPr>
              <a:t>Oscar  Brenifi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0000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826920" y="6165720"/>
            <a:ext cx="720720" cy="69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96" name="Picture 15" descr=""/>
          <p:cNvPicPr/>
          <p:nvPr/>
        </p:nvPicPr>
        <p:blipFill>
          <a:blip r:embed="rId1"/>
          <a:stretch/>
        </p:blipFill>
        <p:spPr>
          <a:xfrm>
            <a:off x="-181080" y="-25560"/>
            <a:ext cx="9506160" cy="7054920"/>
          </a:xfrm>
          <a:prstGeom prst="rect">
            <a:avLst/>
          </a:prstGeom>
          <a:ln w="0">
            <a:noFill/>
          </a:ln>
        </p:spPr>
      </p:pic>
      <p:sp>
        <p:nvSpPr>
          <p:cNvPr id="497" name="Text Box 18"/>
          <p:cNvSpPr/>
          <p:nvPr/>
        </p:nvSpPr>
        <p:spPr>
          <a:xfrm>
            <a:off x="5508720" y="333360"/>
            <a:ext cx="295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Text Box 20"/>
          <p:cNvSpPr/>
          <p:nvPr/>
        </p:nvSpPr>
        <p:spPr>
          <a:xfrm>
            <a:off x="5364000" y="333360"/>
            <a:ext cx="327672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Comic Sans MS"/>
              </a:rPr>
              <a:t>Podes  faz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pt-PT" sz="3200" spc="-1" strike="noStrike">
                <a:solidFill>
                  <a:srgbClr val="000000"/>
                </a:solidFill>
                <a:latin typeface="Comic Sans MS"/>
              </a:rPr>
              <a:t>tudo  aquil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pt-PT" sz="3200" spc="-1" strike="noStrike">
                <a:solidFill>
                  <a:srgbClr val="000000"/>
                </a:solidFill>
                <a:latin typeface="Comic Sans MS"/>
              </a:rPr>
              <a:t>que  queres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0000">
    <p:comb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4" descr=""/>
          <p:cNvPicPr/>
          <p:nvPr/>
        </p:nvPicPr>
        <p:blipFill>
          <a:blip r:embed="rId1"/>
          <a:stretch/>
        </p:blipFill>
        <p:spPr>
          <a:xfrm>
            <a:off x="-181080" y="-171360"/>
            <a:ext cx="9721800" cy="7200720"/>
          </a:xfrm>
          <a:prstGeom prst="rect">
            <a:avLst/>
          </a:prstGeom>
          <a:ln w="0">
            <a:noFill/>
          </a:ln>
        </p:spPr>
      </p:pic>
      <p:sp>
        <p:nvSpPr>
          <p:cNvPr id="500" name="Text Box 5"/>
          <p:cNvSpPr/>
          <p:nvPr/>
        </p:nvSpPr>
        <p:spPr>
          <a:xfrm>
            <a:off x="0" y="0"/>
            <a:ext cx="471636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Comic Sans MS"/>
              </a:rPr>
              <a:t>Somos  obrigad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Comic Sans MS"/>
              </a:rPr>
              <a:t>a  fazer  aquil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Comic Sans MS"/>
              </a:rPr>
              <a:t>que  os  outr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Comic Sans MS"/>
              </a:rPr>
              <a:t>querem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0000">
    <p:comb dir="horz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5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5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9" descr=""/>
          <p:cNvPicPr/>
          <p:nvPr/>
        </p:nvPicPr>
        <p:blipFill>
          <a:blip r:embed="rId1"/>
          <a:stretch/>
        </p:blipFill>
        <p:spPr>
          <a:xfrm>
            <a:off x="0" y="19080"/>
            <a:ext cx="9325080" cy="6877080"/>
          </a:xfrm>
          <a:prstGeom prst="rect">
            <a:avLst/>
          </a:prstGeom>
          <a:ln w="0">
            <a:noFill/>
          </a:ln>
        </p:spPr>
      </p:pic>
      <p:sp>
        <p:nvSpPr>
          <p:cNvPr id="502" name="Text Box 10"/>
          <p:cNvSpPr/>
          <p:nvPr/>
        </p:nvSpPr>
        <p:spPr>
          <a:xfrm>
            <a:off x="5508720" y="549360"/>
            <a:ext cx="34192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Comic Sans MS"/>
              </a:rPr>
              <a:t>Para  ser  liv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Comic Sans MS"/>
              </a:rPr>
              <a:t>é  precis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Comic Sans MS"/>
              </a:rPr>
              <a:t>ser  adulto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0000">
    <p:comb dir="horz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8" descr=""/>
          <p:cNvPicPr/>
          <p:nvPr/>
        </p:nvPicPr>
        <p:blipFill>
          <a:blip r:embed="rId1"/>
          <a:stretch/>
        </p:blipFill>
        <p:spPr>
          <a:xfrm>
            <a:off x="-181080" y="-171360"/>
            <a:ext cx="9506160" cy="7272360"/>
          </a:xfrm>
          <a:prstGeom prst="rect">
            <a:avLst/>
          </a:prstGeom>
          <a:ln w="0">
            <a:noFill/>
          </a:ln>
        </p:spPr>
      </p:pic>
      <p:sp>
        <p:nvSpPr>
          <p:cNvPr id="504" name="Text Box 9"/>
          <p:cNvSpPr/>
          <p:nvPr/>
        </p:nvSpPr>
        <p:spPr>
          <a:xfrm>
            <a:off x="2124000" y="0"/>
            <a:ext cx="446400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00"/>
                </a:solidFill>
                <a:latin typeface="Comic Sans MS"/>
              </a:rPr>
              <a:t>Teremos  todos 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00"/>
                </a:solidFill>
                <a:latin typeface="Comic Sans MS"/>
              </a:rPr>
              <a:t>o direito  de  se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00"/>
                </a:solidFill>
                <a:latin typeface="Comic Sans MS"/>
              </a:rPr>
              <a:t>livres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0000">
    <p:comb dir="horz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8" descr=""/>
          <p:cNvPicPr/>
          <p:nvPr/>
        </p:nvPicPr>
        <p:blipFill>
          <a:blip r:embed="rId1"/>
          <a:stretch/>
        </p:blipFill>
        <p:spPr>
          <a:xfrm>
            <a:off x="-181080" y="-71280"/>
            <a:ext cx="9506160" cy="7100640"/>
          </a:xfrm>
          <a:prstGeom prst="rect">
            <a:avLst/>
          </a:prstGeom>
          <a:ln w="0">
            <a:noFill/>
          </a:ln>
        </p:spPr>
      </p:pic>
      <p:sp>
        <p:nvSpPr>
          <p:cNvPr id="506" name="Text Box 9"/>
          <p:cNvSpPr/>
          <p:nvPr/>
        </p:nvSpPr>
        <p:spPr>
          <a:xfrm>
            <a:off x="3708360" y="189000"/>
            <a:ext cx="4464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00"/>
                </a:solidFill>
                <a:latin typeface="Comic Sans MS"/>
              </a:rPr>
              <a:t>Para  que  serv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00"/>
                </a:solidFill>
                <a:latin typeface="Comic Sans MS"/>
              </a:rPr>
              <a:t>a liberdade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0000">
    <p:comb dir="horz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4T21:46:39Z</dcterms:created>
  <dc:creator>Luis Meira</dc:creator>
  <dc:description/>
  <dc:language>en-US</dc:language>
  <cp:lastModifiedBy>ELVIRA</cp:lastModifiedBy>
  <dcterms:modified xsi:type="dcterms:W3CDTF">2010-11-28T10:35:50Z</dcterms:modified>
  <cp:revision>21</cp:revision>
  <dc:subject/>
  <dc:title>O SAPO APAIXONADO</dc:title>
</cp:coreProperties>
</file>