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8.png" ContentType="image/png"/>
  <Override PartName="/ppt/media/image5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BBD0-B010-4583-B731-7FDF9FCB4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4CA8-2B15-4D53-98CC-0B5153E3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CDD5-487D-4869-8CA8-7268F273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5D33-7150-4A3B-9537-356AC2030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D12E-C0D3-40A0-9B21-A438A9FEA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8B41-C408-40FB-B601-86B907E4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248D-8368-43D9-9BCD-ECC58E4F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A5A9-F44B-4EFF-8C80-F56E58FA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AB17-959F-402F-A933-96D72055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F883-185B-40C1-8F5B-1DB73AED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8CAC-C0B1-4FEC-9486-48C1366B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8E21-6DF9-4F4B-8DE4-B07CB743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3401-9129-457E-B6BD-26D8C34D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9A16-BBC1-4571-8409-98F30485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9584-6959-4ABC-BF7E-4F85B193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CBF1-5F7D-4072-8BEE-F134E1618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121E-9858-418B-AEDB-0829FDAA4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1DAAF-99C0-4F17-95D4-717AA817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3145D-AA3B-4E6C-9EA1-14267CB3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AAD6C-526D-4A1F-BB3B-D1A8FB02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88045-4D4A-45E5-BF60-909E1A1C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0C700-5524-436F-BB9B-C6DAFAF3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5E9B-1A63-4577-B7FB-0433B2EF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A8304-FE5A-4B76-952E-9A6662F7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5E822-A921-4984-BC03-D1379CBC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185BA-B8F6-44F9-B64F-8E8F2C0E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B6009-9346-4715-BE68-8E713742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8C1B7-EE7A-4CA1-A59E-10CB518D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8D6E9-F4D2-4859-8DA6-DC6897829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F3195-41FA-4529-BA01-9778AAA3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DAC6-69C6-4A4A-AF31-87C046F4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B0FC-C747-4E30-A809-EDFC626A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B18D-3121-4F71-9606-7A1B7F2A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BF45-A69D-4BE1-B647-AADD0CA7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A78E-3FFD-4516-8341-5744115C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44E0-6C88-4A90-B05A-294BDB50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84A0-E215-476D-993A-B11364B6A1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BEB9-FCAF-4F1E-B719-20A557BC3C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8D08-F23D-4665-808C-6CB335FA1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5546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lfredo's Dance"/>
              </a:rPr>
              <a:t>Estou a mud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549360"/>
            <a:ext cx="78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lfredo's Dance"/>
              </a:rPr>
              <a:t>Etapas da Adolescênci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916280"/>
            <a:ext cx="8280360" cy="43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eça a compreender-se e a encontrar-se a si mesmo e sente melhor a integração no mundo onde viv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presenta um significativo progresso na superação da timidez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É mais sereno na sua condu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m maior auto-domíni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É a época das decisões: futuro, estudos; começa a projectar a vid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stabelece relações mais pessoais e profun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1413000"/>
            <a:ext cx="828036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9900"/>
                </a:solidFill>
                <a:uFillTx/>
                <a:latin typeface="Arial"/>
              </a:rPr>
              <a:t>c) A Adolescência superior (16 a 22 an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2708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lfredo's Dance"/>
              </a:rPr>
              <a:t>Que alterações físicas se verificam durante a adolescência?</a:t>
            </a:r>
            <a:r>
              <a:rPr b="0" lang="en-US" sz="6000" spc="-1" strike="noStrike">
                <a:solidFill>
                  <a:srgbClr val="000000"/>
                </a:solidFill>
                <a:latin typeface="Alfredo's Dance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8268" b="0"/>
          <a:stretch/>
        </p:blipFill>
        <p:spPr>
          <a:xfrm>
            <a:off x="0" y="0"/>
            <a:ext cx="914400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0"/>
            <a:ext cx="76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fredo's Dance"/>
              </a:rPr>
              <a:t>Rapa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27840"/>
            <a:ext cx="75931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rapaz fica mais al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ssa muscular desenvolve-s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tórax e os ombros alarga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indo-se pilosidade nos membros superiores e inferiores, nas axilas e no pei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oz torna-se mais grav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arba começa a despontar e por vezes também as desagradáveis borbulh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 geralmente entre os 12 e os 15 anos, que começam a ocorrer as ejaculações nocturnas, ou seja emissões de esperma, provocadas pelo conteúdo de sonhos, que podem ser de carácter sexual e erótico. Este acontecimento é perfeitamente normal e é indicativo de que já há produção de esperma e capacidade de ejacul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76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fredo's Dance"/>
              </a:rPr>
              <a:t>Rapari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340640"/>
            <a:ext cx="75931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Os seios desenvolvem-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parecem os pêlos do púbis e das axilas e inicia-se a menstru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aralelamente à aparição de pêlos, produz-se uma modificação interna dos órgãos genitais, aumentando o tamanho dos ovários e do út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 mucosa vaginal transforma-se os grandes lábios desenvolvem-se e os pequenos pigmentam-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O clitóris cresce e torna-se sensí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No final da puberdade o corpo de uma rapariga é já o de uma mul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76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fredo's Dance"/>
              </a:rPr>
              <a:t>Rapari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907200"/>
            <a:ext cx="75931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a aceleração sensível do crescimento ósseo ocorre sob a influência das hormo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a-se que uma rapariga, dos 10 aos 14 anos pode crescer entre 5 e 11 centímetros por ano. Isto significa que desde o início da puberdade pode crescer de 15 a 20 centíme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acia alarga, enquanto que o alto do corpo se torna mais fino, sendo possível um certo aumento de p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gorduras, por seu lado, vão-se espalhando, localizando-se nas ancas , na bacia e nas cox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umas raparigas vêm nessa altura surgir celulite e estrias na p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052640"/>
            <a:ext cx="91440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 u="sng">
                <a:solidFill>
                  <a:srgbClr val="ffff00"/>
                </a:solidFill>
                <a:uFillTx/>
                <a:latin typeface="Thickhead"/>
              </a:rPr>
              <a:t>Tipos de Mudança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012000" y="18900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dança de Escol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234936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dança de Paí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1125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dança de Namorad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386064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dança de Amigo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508464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dança de Turm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43280" y="602136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dança de Carr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6028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dança de cas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43280" y="436572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dança de atitud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515772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dança de Humo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98900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dança de Estilo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843280" y="2279520"/>
            <a:ext cx="3313080" cy="2203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5661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lfredo's Dance"/>
              </a:rPr>
              <a:t>Será a mudança algo problemát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549360"/>
            <a:ext cx="78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lfredo's Dance"/>
              </a:rPr>
              <a:t>Definição de Adolescê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1557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É um período da vida, que começa aos 12 e vai até aos 19 a nos, onde acontecem </a:t>
            </a:r>
            <a:r>
              <a:rPr b="1" lang="en-US" sz="2400" spc="-1" strike="noStrike">
                <a:solidFill>
                  <a:srgbClr val="ff9900"/>
                </a:solidFill>
                <a:latin typeface="Arial Narrow"/>
              </a:rPr>
              <a:t>diversas mudanças físicas, psicológicas e comportamentai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328464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É uma extraordinária etapa na vida de todas as pessoas. É nela que a pessoa </a:t>
            </a:r>
            <a:r>
              <a:rPr b="1" lang="en-US" sz="2400" spc="-1" strike="noStrike">
                <a:solidFill>
                  <a:srgbClr val="ff9900"/>
                </a:solidFill>
                <a:latin typeface="Arial Narrow"/>
              </a:rPr>
              <a:t>descobre a sua identidad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e </a:t>
            </a:r>
            <a:r>
              <a:rPr b="1" lang="en-US" sz="2400" spc="-1" strike="noStrike">
                <a:solidFill>
                  <a:srgbClr val="ff9900"/>
                </a:solidFill>
                <a:latin typeface="Arial Narrow"/>
              </a:rPr>
              <a:t>define a sua personalidad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 Nesse processo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manifesta-se a cris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, na qual se </a:t>
            </a:r>
            <a:r>
              <a:rPr b="1" lang="en-US" sz="2400" spc="-1" strike="noStrike">
                <a:solidFill>
                  <a:srgbClr val="ff9900"/>
                </a:solidFill>
                <a:latin typeface="Arial Narrow"/>
              </a:rPr>
              <a:t>reformulam os valore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dquiridos na infância e </a:t>
            </a:r>
            <a:r>
              <a:rPr b="1" lang="en-US" sz="2400" spc="-1" strike="noStrike">
                <a:solidFill>
                  <a:srgbClr val="ff9900"/>
                </a:solidFill>
                <a:latin typeface="Arial Narrow"/>
              </a:rPr>
              <a:t>se assimilam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numa nova estrutura mais mad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549360"/>
            <a:ext cx="78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lfredo's Dance"/>
              </a:rPr>
              <a:t>Etapas da Adolescênci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2133720"/>
            <a:ext cx="8280360" cy="37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asce a intimidade – desperta o próprio e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rise de crescimento físico, psíquico e maturação sexu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ão há ainda consciência daquilo que se está a passa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hece pela primeira vez as suas limitações e fraquez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sequilíbrio nas emoções, que se reflecte na sensibilidade exagerada e na irritabilidade de caráct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1413000"/>
            <a:ext cx="828036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buClr>
                <a:srgbClr val="ff99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9900"/>
                </a:solidFill>
                <a:uFillTx/>
                <a:latin typeface="Arial"/>
              </a:rPr>
              <a:t>A puberdade ou adolescência inicial (11 a 14 an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549360"/>
            <a:ext cx="78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lfredo's Dance"/>
              </a:rPr>
              <a:t>Etapas da Adolescênci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413000"/>
            <a:ext cx="8280360" cy="17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ão sintonia” com o mundo dos adult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fugia-se no isolamento ou no grupo de companheiros de estudo, ou integra-se num grupo de amig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549360"/>
            <a:ext cx="78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lfredo's Dance"/>
              </a:rPr>
              <a:t>Etapas da Adolescênci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916280"/>
            <a:ext cx="8280360" cy="39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o despertar do “eu” passa-se à descoberta consciente do “eu”, ou da própria intimidade. Dá-se lugar à introversão, existe a necessidade de viver dentro de si mesm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parece a necessidade de amar. Por norma, “surge o primeiro namoro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timidez é característica desta fa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flito interior ou da personalida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413000"/>
            <a:ext cx="828036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9900"/>
                </a:solidFill>
                <a:uFillTx/>
                <a:latin typeface="Arial"/>
              </a:rPr>
              <a:t>b) A adolescência média (13 a 17 an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549360"/>
            <a:ext cx="78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lfredo's Dance"/>
              </a:rPr>
              <a:t>Etapas da Adolescênci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1341360"/>
            <a:ext cx="82803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ortamentos negativos, de inconformismo e agressividade para com os outros. Causados pela frustração de não poderem valer-se a si mes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21:20:04Z</dcterms:created>
  <dc:creator>Sonia Neves</dc:creator>
  <dc:description/>
  <dc:language>en-US</dc:language>
  <cp:lastModifiedBy>Sonia Neves</cp:lastModifiedBy>
  <dcterms:modified xsi:type="dcterms:W3CDTF">2003-10-08T21:28:36Z</dcterms:modified>
  <cp:revision>8</cp:revision>
  <dc:subject/>
  <dc:title>Diapositivo 1</dc:title>
</cp:coreProperties>
</file>