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09C-7A60-43FD-BEC3-3348C172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67F-3A11-45B9-A4BF-8E3F9E2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BC1-5DDF-4D4B-A705-D81F7815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540-3180-4A9B-B7FB-5F37A972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71A-2C19-4121-B4FF-15C0563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C65-85C3-4939-BEB6-5032800B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55D-8022-42C7-8756-F7A02A8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C91-58F9-46ED-890C-215C8F7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23C-B894-4F6F-8D16-B358185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982-57F1-4DAD-8CE9-8ACC6F3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DEA-A258-43BA-8E4A-6CB87A7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277-28ED-45BD-BD60-8ED0AB1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5F7-44E6-40F3-AA24-B61FC0F7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R E SEXUAL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8b24003877e63eb1f9705ee7ee4689abc973279d"/>
          <p:cNvPicPr/>
          <p:nvPr/>
        </p:nvPicPr>
        <p:blipFill>
          <a:blip r:embed="rId1"/>
          <a:stretch/>
        </p:blipFill>
        <p:spPr>
          <a:xfrm>
            <a:off x="1979640" y="1844640"/>
            <a:ext cx="53276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3203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homem e a mulher são atraídos um pelo outro para viverem o belo mistério do amor e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xualidade está ligada ao nosso coração: pode maravilhosamente exprimir a afeição, a ternura, a união amorosa, com os nossos valores culturais e espiritu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chrisgontijo.tempsite.ws/blog/wp-content/uploads/2012/03/casal-feliz.jpg"/>
          <p:cNvPicPr/>
          <p:nvPr/>
        </p:nvPicPr>
        <p:blipFill>
          <a:blip r:embed="rId1"/>
          <a:stretch/>
        </p:blipFill>
        <p:spPr>
          <a:xfrm>
            <a:off x="3851280" y="727200"/>
            <a:ext cx="504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ssa sexualidade é rica, ou deveria sê-lo, pelo belo mistério do amor que dá sentido e alegria à noss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8014041_sFsPM"/>
          <p:cNvPicPr/>
          <p:nvPr/>
        </p:nvPicPr>
        <p:blipFill>
          <a:blip r:embed="rId1"/>
          <a:stretch/>
        </p:blipFill>
        <p:spPr>
          <a:xfrm>
            <a:off x="2843280" y="3068640"/>
            <a:ext cx="37623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mas 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5338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s relações sexuais são necessárias para a nossa saú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LSO! A abstinência não torna ninguém doe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abstinência não causa uma frustração ou recalca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ÃO! As relações sexuais não correspondem a uma necessidade como comer ou beber, assoar-se ou fazer necessidades. E evitamos consequências aborrecidas: deceções, obsessões, DST/SIDA, gravidez não desejada, …(completa a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-ABSTINENCIA-SEXUAL"/>
          <p:cNvPicPr/>
          <p:nvPr/>
        </p:nvPicPr>
        <p:blipFill>
          <a:blip r:embed="rId1"/>
          <a:stretch/>
        </p:blipFill>
        <p:spPr>
          <a:xfrm>
            <a:off x="5867280" y="2924280"/>
            <a:ext cx="25416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55450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á possível desenvolver a sexualidade sem relações sexua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! ABSOLUTAMENTE! Porque a sexualidade começa na cabeça e no coração. Desenvolvendo a personalidade e as amizades sãs, potencias a capacidade de desenvolver relações amor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20"/>
          <p:cNvPicPr/>
          <p:nvPr/>
        </p:nvPicPr>
        <p:blipFill>
          <a:blip r:embed="rId1"/>
          <a:stretch/>
        </p:blipFill>
        <p:spPr>
          <a:xfrm>
            <a:off x="369720" y="4221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2411280" y="3933720"/>
            <a:ext cx="6120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é FRIGIDE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É o estado de uma mulher que não experimenta nenhum desejo sexual nem nenhum prazer. Ela está “fria”. Para o homem fala-se de “impotênc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ovens"/>
          <p:cNvPicPr/>
          <p:nvPr/>
        </p:nvPicPr>
        <p:blipFill>
          <a:blip r:embed="rId2"/>
          <a:stretch/>
        </p:blipFill>
        <p:spPr>
          <a:xfrm>
            <a:off x="6288120" y="981000"/>
            <a:ext cx="22431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rigidez e a impotênci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244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êm, muitas vezes, de um bloqueio psíquico: temor, complexo, culpabilidade, desgosto, ansiedade, traumatismo depois de uma violação, de abusos ou falhas sexuais, ou ainda por causa de uma educação rígida ou culpabilizante. Este bloqueio psíquico pode paralisar o corpo e a sexu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remedios-contra-a-impotencia-sexual-1"/>
          <p:cNvPicPr/>
          <p:nvPr/>
        </p:nvPicPr>
        <p:blipFill>
          <a:blip r:embed="rId1"/>
          <a:stretch/>
        </p:blipFill>
        <p:spPr>
          <a:xfrm>
            <a:off x="2340000" y="3716280"/>
            <a:ext cx="4248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sto que a união física é querida pelo Criador, não se deve ter receio. Mas deve-se defendê-la de tudo o que a possa ferir. Reservemo-la para o amor forte e fiel, para que se desenvolva no sentimento de ser aceite e amado(a) sem ser julgado(a) nem comparado(a) com outros. É o melhor remédio contra as perturbações sexua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asal-alegre"/>
          <p:cNvPicPr/>
          <p:nvPr/>
        </p:nvPicPr>
        <p:blipFill>
          <a:blip r:embed="rId1"/>
          <a:stretch/>
        </p:blipFill>
        <p:spPr>
          <a:xfrm>
            <a:off x="2987640" y="364500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pensar da masturb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masturbação é a busca solitária do prazer sexual pela excitação das partes genitais ou por fantasias. Acontece com frequência na adolescência com o aparecimento das pulsões sexu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eurochannel.com/images/stories/alone_3.jpg"/>
          <p:cNvPicPr/>
          <p:nvPr/>
        </p:nvPicPr>
        <p:blipFill>
          <a:blip r:embed="rId1"/>
          <a:stretch/>
        </p:blipFill>
        <p:spPr>
          <a:xfrm>
            <a:off x="3203640" y="371628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7775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s tendências a evi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ALIZAR a masturbação como se fosse uma higiene necessária ou uma descoberta normal e positiva da sexualidade. Não, a masturbação não é ino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ZAR  a masturbação como a coisa mais suja e vergonhosa. Não: o nosso corpo é belo… e o prazer é legíti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ANd9GcQEMt1w1pvxTnN4VwOb54YX79VLx3SXFGqWIIlaQiitB0STdFCDMY975HjITg"/>
          <p:cNvPicPr/>
          <p:nvPr/>
        </p:nvPicPr>
        <p:blipFill>
          <a:blip r:embed="rId1"/>
          <a:stretch/>
        </p:blipFill>
        <p:spPr>
          <a:xfrm>
            <a:off x="4140360" y="4149720"/>
            <a:ext cx="3887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verdadeiro problema da masturb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50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É a busca de prazer centrado sobre si mesmo, sem relação nem ternura partilhada. Isso pode tornar-se uma obsessão dececionante ou culpabilizante que envenena a noss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 problema não é físico mas mental: enfraquece a personalidade (obsessão, sentimento de falha, culpabilidade) e pode parasitar as relações amorosas (dando primeiramente lugar à busca de prazer individual em vez de viver uma verdadeira relação de amor e de prazer partilhad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punheta"/>
          <p:cNvPicPr/>
          <p:nvPr/>
        </p:nvPicPr>
        <p:blipFill>
          <a:blip r:embed="rId1"/>
          <a:stretch/>
        </p:blipFill>
        <p:spPr>
          <a:xfrm>
            <a:off x="5508720" y="2852640"/>
            <a:ext cx="3240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a pornograf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978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PORNOGRAFIA invade o espírito com fantasias sórdidas, gravadas no imaginário. Ela paralisa as nossas capacidades de imagin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em vê pornografia pode tornar-se  obcecado, incapaz de realizar corretamente o amor (por causa de ejaculação precoce ou por desgosto e inibição pelo medo de passar ao ato sem estar à al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Demasiado sexo mata o sexo”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Tony Anatrella, psiquia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ornografia_2"/>
          <p:cNvPicPr/>
          <p:nvPr/>
        </p:nvPicPr>
        <p:blipFill>
          <a:blip r:embed="rId1"/>
          <a:stretch/>
        </p:blipFill>
        <p:spPr>
          <a:xfrm>
            <a:off x="5435640" y="3284640"/>
            <a:ext cx="3414600" cy="2313000"/>
          </a:xfrm>
          <a:prstGeom prst="rect">
            <a:avLst/>
          </a:prstGeom>
          <a:ln w="0">
            <a:noFill/>
          </a:ln>
        </p:spPr>
      </p:pic>
      <p:sp>
        <p:nvSpPr>
          <p:cNvPr id="93" name="CaixaDeTexto 1"/>
          <p:cNvSpPr/>
          <p:nvPr/>
        </p:nvSpPr>
        <p:spPr>
          <a:xfrm>
            <a:off x="684360" y="119700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RNOGRAFIA = DROGA DO S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nosso maior DESE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87640" y="1628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nosso maior desejo é amar e ser amado/a com ternura e felicidade. Fomos criados para isso. Não há felicidade sem isso. Este é o mais belo que podemos dar e rece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enino+e+menina+001"/>
          <p:cNvPicPr/>
          <p:nvPr/>
        </p:nvPicPr>
        <p:blipFill>
          <a:blip r:embed="rId1"/>
          <a:stretch/>
        </p:blipFill>
        <p:spPr>
          <a:xfrm>
            <a:off x="684360" y="1700280"/>
            <a:ext cx="3252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3816360" cy="550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verdadeira sexu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linguagem do co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e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ita e honra a pessoa 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fonte de prazer e de aleg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 a vida (procri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00720" y="620640"/>
            <a:ext cx="4186080" cy="5505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sexo pelo sex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-se violento e alie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 o parc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ilus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causar doenças (SIDA, DST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 contrário dos anim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7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ós não somos comandados por instintos cegos. Nós não somos bichos! O nosso ser pode controlar os impulsos, como o cavaleiro controla a sua cavalgadura, ou o piloto controla o seu aparelho. A nossa cabeça pode dominar e orientar os nossos impulsos de acordo com os nossos objetivos e os nossos valores. Mas se nos entregamos à curtição e à pornografia, tornam-se incontroláveis. Embrutecem-nos e tornam-nos piores que um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0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ua cabeça é o piloto da tua vid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7280" y="404640"/>
            <a:ext cx="4716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o teu coração, da tua sexualidade. Se o piloto está doente, cheio de ideias ou de imagens sujas (porno), ele vai desestabilizar os impulsos. Mas se a tua cabeça está de boa forma, alimentada com valores fortes e objetivos positivos, ele será um super piloto para a tua vida sentimental e sex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 primeiro órgão sexual do Homem é o seu cérebr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Dr. Paul Chauch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migasjeansviajante"/>
          <p:cNvPicPr/>
          <p:nvPr/>
        </p:nvPicPr>
        <p:blipFill>
          <a:blip r:embed="rId1"/>
          <a:stretch/>
        </p:blipFill>
        <p:spPr>
          <a:xfrm>
            <a:off x="755640" y="314172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 presen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63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nossa sexualidade não é animal, nem porca, nem ta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que é porco é o sexo bruto e sem ternura (pornograf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la não é um objeto para brincar nem uma necessidade para satisfa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la é bela e sagrada, porque é feita para a vida e para o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530822"/>
          <p:cNvPicPr/>
          <p:nvPr/>
        </p:nvPicPr>
        <p:blipFill>
          <a:blip r:embed="rId1"/>
          <a:stretch/>
        </p:blipFill>
        <p:spPr>
          <a:xfrm>
            <a:off x="0" y="162864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exualidade"/>
          <p:cNvPicPr/>
          <p:nvPr/>
        </p:nvPicPr>
        <p:blipFill>
          <a:blip r:embed="rId2"/>
          <a:stretch/>
        </p:blipFill>
        <p:spPr>
          <a:xfrm>
            <a:off x="7093080" y="4478400"/>
            <a:ext cx="20509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ATRIM%C3%94NIO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eza e prazer da sexualida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 Bíb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4160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Bíblia é hiper positiva acerca da sexualidade e do amor. Ela mostra-nos o homem e a mulher criados à imagem de Deus – e não dos animais. Convida-nos a unir-nos num amor repleto de delicadeza, festivo, …e carnal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Veja-se sobretudo o Livro do Cântico dos Cânticos, que canta um amor deliciosamente erótico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aint-Shulam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012000" y="2444760"/>
            <a:ext cx="2620800" cy="2712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79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1" lang="pt-PT" sz="2000" spc="-1" strike="noStrike">
                <a:solidFill>
                  <a:srgbClr val="000000"/>
                </a:solidFill>
                <a:latin typeface="Papyrus"/>
              </a:rPr>
              <a:t>Deus criou-os homem e mulher à sua imagem… Deus viu que era tudo muito bom. (…) Deus abençoou-os e disse: “Multiplicai-vos” (Gn 1, 28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Papyrus"/>
              </a:rPr>
              <a:t>Não é bom que o homem esteja só. Vou fazer-lhe uma companheira (…) e os dois serão uma só carne.” (Gn 2, 18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Papyrus"/>
              </a:rPr>
              <a:t>Regozija-te com a companheira da tua juventude,  corça amorosa, gazela encantadora. Inebriem-te sempre os seus encantos e as suas carícias sejam sempre o teu enlevo. (Prov 5, 18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Papyrus"/>
              </a:rPr>
              <a:t>Ah! Como és bela, minha amiga! Como são lindos os teus olhos de pomba! Ah! Como é belo o meu amado! E como é doce, como é verdejante o nosso leito! Roubaste-me o coração, minha irmã e minha noiva, roubaste-me o coração com um dos teus olhares, com uma só conta do teu colar. Como são doces as tuas carícias, minha irmã e noiva! Muito melhores que vinho são as tuas carícias; mais forte que todos os odores é a fragrância dos teus perfumes. (Cant Cant 1, 15-16; 4, 9-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riando-nos homem e mul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us criou a sexualidade para a nossa alegria e para nos introduzir no mistério do amor e da vida. Mistério gravado no nosso corpo: ao contrário de todos os animais, o homem e a mulher são capazes de realizar o abraço carnal face a face, rosto com rosto, num diálogo interpessoal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kiss_2"/>
          <p:cNvPicPr/>
          <p:nvPr/>
        </p:nvPicPr>
        <p:blipFill>
          <a:blip r:embed="rId1"/>
          <a:stretch/>
        </p:blipFill>
        <p:spPr>
          <a:xfrm>
            <a:off x="3995640" y="2205000"/>
            <a:ext cx="4249800" cy="2822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3673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ós fomos criados carne e espírito. Não separemos a sexualidade da espiritu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união amorosa, o carnal torna-se espiritual, e o espiritual torna-se ca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namorado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46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 somos crentes, vivamos a nossa sexualidade segundo o Plano do Criador. É Ele que, como o fabricante de um ser, sabe porquê, quando e como gozar desse dom. Tenhamos confiança n´Ele, que só quer o nosso b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4546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mor entre um homem e uma mulher é a mais doce das experiências humanas, a mais emocionante e, para muitos, a mais f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do começa por amar-se a si mesmo. Se não te amas a ti mesmo/a, terás dificuldade em sair de ti e de amar os ou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i200380"/>
          <p:cNvPicPr/>
          <p:nvPr/>
        </p:nvPicPr>
        <p:blipFill>
          <a:blip r:embed="rId1"/>
          <a:stretch/>
        </p:blipFill>
        <p:spPr>
          <a:xfrm>
            <a:off x="4859280" y="2060640"/>
            <a:ext cx="4070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is temos a amiz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múltiplas amizades que nos vão ajudar a crescer e enriquecer. Há também todas as ações de solidariedade, onde gostamos de oferecer ajuda e felicidade aos outros. Mas nada disso substitui o amor de um homem e de uma mulher que se unem para 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exualidade+e+afetividade+-+para+o+blog"/>
          <p:cNvPicPr/>
          <p:nvPr/>
        </p:nvPicPr>
        <p:blipFill>
          <a:blip r:embed="rId1"/>
          <a:stretch/>
        </p:blipFill>
        <p:spPr>
          <a:xfrm>
            <a:off x="468360" y="1773360"/>
            <a:ext cx="39956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mas pessoas dizem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715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mor, o principal é protegeres-te. Mas tu procuras, certamente, algo mais que conselhos de higiene para evitar doenças ou a gravidez não desej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exualidade"/>
          <p:cNvPicPr/>
          <p:nvPr/>
        </p:nvPicPr>
        <p:blipFill>
          <a:blip r:embed="rId1"/>
          <a:stretch/>
        </p:blipFill>
        <p:spPr>
          <a:xfrm>
            <a:off x="2411280" y="3645000"/>
            <a:ext cx="4608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 homem ou que mulher quero vir a 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que género de pai ou de mãe quero vir a ser mais tarde para os meus filhos? Se puderes, responde a estas perg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1-02-2011-13-18-01-para-site"/>
          <p:cNvPicPr/>
          <p:nvPr/>
        </p:nvPicPr>
        <p:blipFill>
          <a:blip r:embed="rId1"/>
          <a:stretch/>
        </p:blipFill>
        <p:spPr>
          <a:xfrm>
            <a:off x="2340000" y="3500280"/>
            <a:ext cx="4762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inha verdadeira liber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ão está em fazer o que eu quero, como eu quero. Também não consiste em fazer como os outros fazem, nem ser como o catavento! A minha verdadeira liberdade está em realizar o meu sonho de amor. Para isso, quero lutar e não tenho medo de ser anticonfor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depositonaweb.com.br/wp-content/uploads/2009/06/casal1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xualidade humana é muito mais rica do que o sexo. É bela e sagr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580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xualidade dos animais limita-se ao instinto e à reprodução: eles acasalam somente para se reproduzir, nas estações próprias, e sempre do mesmo modo. E sem prazer nem orgasmo (é assim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www.leoneveseoswaldomarra.com.br/2010/wp-content/gallery/casal/casal26.jpg"/>
          <p:cNvPicPr/>
          <p:nvPr/>
        </p:nvPicPr>
        <p:blipFill>
          <a:blip r:embed="rId1"/>
          <a:stretch/>
        </p:blipFill>
        <p:spPr>
          <a:xfrm>
            <a:off x="250920" y="2997360"/>
            <a:ext cx="3409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ossa sexualidade é rica da nossa personalidade e dos nossos valores huma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5194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ós somos sexuados, homem e mulher, da cabeça aos pés. A nossa sexualidade é fonte de uma formidável e deliciosa variedade corporal e espiritual: força e doçura, segurança e elegância, encanto e prazer.. O mundo seria mesmo aborrecido sem e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um_amor_de_juventude_gf_3"/>
          <p:cNvPicPr/>
          <p:nvPr/>
        </p:nvPicPr>
        <p:blipFill>
          <a:blip r:embed="rId1"/>
          <a:stretch/>
        </p:blipFill>
        <p:spPr>
          <a:xfrm>
            <a:off x="5508720" y="2924280"/>
            <a:ext cx="34560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5:28Z</dcterms:created>
  <dc:creator>Adm</dc:creator>
  <dc:description/>
  <dc:language>en-US</dc:language>
  <cp:lastModifiedBy>Adm</cp:lastModifiedBy>
  <dcterms:modified xsi:type="dcterms:W3CDTF">2012-06-17T16:13:32Z</dcterms:modified>
  <cp:revision>14</cp:revision>
  <dc:subject/>
  <dc:title>Amor e sexualidade</dc:title>
</cp:coreProperties>
</file>