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6.jpeg" ContentType="image/jpeg"/>
  <Override PartName="/ppt/media/image23.png" ContentType="image/png"/>
  <Override PartName="/ppt/media/image22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7285-836E-4844-AADA-00EAC1EA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39C6-9A77-459B-9F70-7C6FD803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BB4F-3FFA-4C9D-8F22-FBA36E3B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87F2-ADD1-4819-8F4A-7B43EDF3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0A75-9ED2-47AC-8E11-488BD1C9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929C-AA0B-499C-80EE-7E31B40F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190D-05C7-40AB-A15E-8BC5274C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0843-BB1B-42E2-B593-7F07A714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8696-9EE5-4F99-AB31-ABDA63D5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7330-EEF6-427F-837F-DE1D19B8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0B70-57A4-4E1D-9578-5BC648F6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EC59-083B-409E-B7E3-0BCBFD6D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3C55-662F-4DED-8F41-90780BC3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0138-EE69-4C22-82BB-296BBA47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82D4-612B-4516-BC15-BFFFB416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32B4-8ACE-4A17-8A66-E8977AA2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6EFA-9478-46DC-B1B9-C496E6DF0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52BE9-38EC-46FF-A942-B8DBF6998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BD1BE-AC54-4844-871E-AA4C9438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C5CE7-FC0D-4653-841F-307DFB1C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DF367-1A76-412E-82D8-C8CDCEBD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42D9C-A579-47A0-88E3-45B61859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774A-9315-4F09-A3F3-7A122718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450E5-8D1D-488B-84AE-31AED664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B201C-3869-4340-99DF-511B217D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42854-3FC3-452A-895D-97AEA225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FAA56-2AB7-467A-986B-E7F2CDFA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A2527-D4DA-426D-8A67-F2D8D113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A31B2-5849-464F-BC0E-2F4E56E9C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E983A-5AEA-4603-BC13-5B456EA07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D64D9-C451-4082-A8DF-361408D2B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313BC-C06B-46E6-A45D-73C3578B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E517B-23F2-4CAC-B28D-81EC821F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7CC5-8BD6-46B3-80F1-80D76FA6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5A1DE-B100-489A-A5CA-0318D5D0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D7E52-D299-4CD0-A2EE-253CBF60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965B5-7990-4EB3-9A76-13355CCC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851F4-EBF5-4A6D-982A-FDA94839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7053A-7386-4042-B71A-AE6921AA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E7680-746A-43B8-A250-6910579B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90F4A-076F-498B-AEDF-0CB0E49D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6D7C2-143B-4873-8F51-7A6CF2EE9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1AD5A-935C-462C-A8FF-57E7F357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4AA81-5C39-4553-B05A-5360A808C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8FFE-AA69-4C72-8E02-9B97A34F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3EC60-9418-4B48-8E85-9B97676D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81151-9469-491F-970B-385E2B9C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3EF4B-8E10-4565-8877-04306E63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28FA3-A193-4F10-BAA0-C59C96FD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55AD3-FC55-4273-A23D-0B89FB2E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7382A-6098-4072-B92B-CDA79BED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F6759-9631-444A-A09A-89D65A17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779BE-29F5-44C1-A385-F0458B91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26929-F02C-4CB7-8B22-779AF385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79D9E-08E7-4B5C-BB68-A3884A71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C75E-D0E2-4454-A3D4-25C1907A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DBB85-85EA-441C-89C9-48FA4633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6BE44-85F9-48A3-9F64-E74746C5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A9B83-AD55-4ACB-890D-2C331576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1D819-19BA-4D50-8828-17F4AB6F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C482A-85FA-43D4-BB54-1D37F386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00FE9-7118-4385-9326-FF936649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F59C0-AD8D-469F-95D5-59CAC58B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8CCB8-585F-4E62-93FE-1F6A439A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F22BF-61DC-4918-8257-E26DFDBC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7B0EC-7354-4DFA-8AD4-E4267AE3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BEC9-3D98-45EF-B1AF-F3B5D2B3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013DA-AE42-4438-8F80-612F58CF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C2297-AD0D-42BD-B982-D7288943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C6CDF-4EC7-4310-A885-48074D707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810B7-8D6E-40C3-9EB6-5F4E035EB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0BBA3-C139-40C0-BB6E-F9ED74E6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4D0E9-7239-4FAD-8E06-14F4707C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4258A-359A-4D15-AB4C-9A0451AD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CB062-8DC3-4336-A52F-4BD64F13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38217-DD80-4248-8011-0F2CEE2B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5C9C5-7293-46AD-8CFE-3169D2E2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3049-967E-4148-8E29-9136FEA6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62F60-9701-4E09-BD94-E63AA165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B76A6-3D15-4B52-B751-FA7B0E93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A2E1D-F906-424F-B326-40E5E8D2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86B34-DB66-40A0-A313-A6D34842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8E38F-1B59-4907-818A-E2BC55719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1D72-7257-4162-B4AD-AB7DA6FD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riângulo rectângulo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Conexão recta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Conexão recta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9546-4772-4FBC-90C1-2A976CBBF52F}" type="slidenum">
              <a:rPr b="0" lang="pt-PT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riângulo rectângulo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Conexão recta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Conexão recta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riângulo isósceles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000C-878A-4EF7-922A-C768ADA9C285}" type="slidenum">
              <a:rPr b="0" lang="pt-PT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riângulo rectângulo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Conexão recta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Conexão recta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D0DE-8697-4426-BBB7-DE5BBABFE95F}" type="slidenum">
              <a:rPr b="0" lang="pt-PT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riângulo rectângulo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riângulo isósceles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Conexão recta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Conexão recta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D741-AB57-441C-97CF-525816502C34}" type="slidenum">
              <a:rPr b="0" lang="pt-PT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D96D-54FB-45ED-BC63-0491D02D2689}" type="slidenum">
              <a:rPr b="0" lang="pt-PT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5FE8-6800-41FA-B302-C11481BEEC18}" type="slidenum">
              <a:rPr b="0" lang="pt-PT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7ECB-AA18-4CC0-9DCB-EEFADB924967}" type="slidenum">
              <a:rPr b="0" lang="pt-PT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ítulo 1" descr=""/>
          <p:cNvPicPr/>
          <p:nvPr/>
        </p:nvPicPr>
        <p:blipFill>
          <a:blip r:embed="rId1"/>
          <a:stretch/>
        </p:blipFill>
        <p:spPr>
          <a:xfrm>
            <a:off x="536400" y="725400"/>
            <a:ext cx="8071200" cy="15242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"/>
          <p:cNvPicPr/>
          <p:nvPr/>
        </p:nvPicPr>
        <p:blipFill>
          <a:blip r:embed="rId2"/>
          <a:stretch/>
        </p:blipFill>
        <p:spPr>
          <a:xfrm>
            <a:off x="981000" y="2286000"/>
            <a:ext cx="647064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30" name="Marcador de Posição de Conteúdo 3" descr="crianca_direitos_fadas05.gif"/>
          <p:cNvPicPr/>
          <p:nvPr/>
        </p:nvPicPr>
        <p:blipFill>
          <a:blip r:embed="rId1"/>
          <a:stretch/>
        </p:blipFill>
        <p:spPr>
          <a:xfrm>
            <a:off x="179280" y="0"/>
            <a:ext cx="8785440" cy="6858000"/>
          </a:xfrm>
          <a:prstGeom prst="rect">
            <a:avLst/>
          </a:prstGeom>
          <a:ln w="0">
            <a:noFill/>
          </a:ln>
        </p:spPr>
      </p:pic>
      <p:sp>
        <p:nvSpPr>
          <p:cNvPr id="331" name="Oval 4"/>
          <p:cNvSpPr/>
          <p:nvPr/>
        </p:nvSpPr>
        <p:spPr>
          <a:xfrm>
            <a:off x="4932360" y="5445000"/>
            <a:ext cx="3024360" cy="505080"/>
          </a:xfrm>
          <a:prstGeom prst="ellipse">
            <a:avLst/>
          </a:prstGeom>
          <a:solidFill>
            <a:srgbClr val="bce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33" name="Marcador de Posição de Conteúdo 3" descr="6-00f8d97971.jpg"/>
          <p:cNvPicPr/>
          <p:nvPr/>
        </p:nvPicPr>
        <p:blipFill>
          <a:blip r:embed="rId1"/>
          <a:stretch/>
        </p:blipFill>
        <p:spPr>
          <a:xfrm>
            <a:off x="1527120" y="1882800"/>
            <a:ext cx="6089760" cy="4572000"/>
          </a:xfrm>
          <a:prstGeom prst="rect">
            <a:avLst/>
          </a:prstGeom>
          <a:ln w="0">
            <a:noFill/>
          </a:ln>
        </p:spPr>
      </p:pic>
      <p:sp>
        <p:nvSpPr>
          <p:cNvPr id="334" name="CaixaDeTexto 4"/>
          <p:cNvSpPr/>
          <p:nvPr/>
        </p:nvSpPr>
        <p:spPr>
          <a:xfrm>
            <a:off x="4284720" y="1844640"/>
            <a:ext cx="208764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entury Gothic"/>
              </a:rPr>
              <a:t>As Crianças com deficiência têm o direito a cuidados especiais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CaixaDeTexto 5"/>
          <p:cNvSpPr/>
          <p:nvPr/>
        </p:nvSpPr>
        <p:spPr>
          <a:xfrm>
            <a:off x="2411280" y="4653000"/>
            <a:ext cx="237672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entury Gothic"/>
              </a:rPr>
              <a:t>…</a:t>
            </a:r>
            <a:r>
              <a:rPr b="0" lang="pt-PT" sz="1600" spc="-1" strike="noStrike">
                <a:solidFill>
                  <a:srgbClr val="000000"/>
                </a:solidFill>
                <a:latin typeface="Century Gothic"/>
              </a:rPr>
              <a:t>e a responsabilidade de serem as melhores pessoas no que conseguem alcança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37" name="Marcador de Posição de Conteúdo 3" descr="crianca_direitos_fadas06.gif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6597720"/>
          </a:xfrm>
          <a:prstGeom prst="rect">
            <a:avLst/>
          </a:prstGeom>
          <a:ln w="0">
            <a:noFill/>
          </a:ln>
        </p:spPr>
      </p:pic>
      <p:sp>
        <p:nvSpPr>
          <p:cNvPr id="338" name="Oval 4"/>
          <p:cNvSpPr/>
          <p:nvPr/>
        </p:nvSpPr>
        <p:spPr>
          <a:xfrm>
            <a:off x="4932360" y="5445000"/>
            <a:ext cx="3024360" cy="505080"/>
          </a:xfrm>
          <a:prstGeom prst="ellipse">
            <a:avLst/>
          </a:prstGeom>
          <a:solidFill>
            <a:srgbClr val="bce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40" name="Marcador de Posição de Conteúdo 3" descr="7-8483c22e91.jpg"/>
          <p:cNvPicPr/>
          <p:nvPr/>
        </p:nvPicPr>
        <p:blipFill>
          <a:blip r:embed="rId1"/>
          <a:stretch/>
        </p:blipFill>
        <p:spPr>
          <a:xfrm>
            <a:off x="1527120" y="1882800"/>
            <a:ext cx="6089760" cy="4572000"/>
          </a:xfrm>
          <a:prstGeom prst="rect">
            <a:avLst/>
          </a:prstGeom>
          <a:ln w="0">
            <a:noFill/>
          </a:ln>
        </p:spPr>
      </p:pic>
      <p:sp>
        <p:nvSpPr>
          <p:cNvPr id="341" name="CaixaDeTexto 4"/>
          <p:cNvSpPr/>
          <p:nvPr/>
        </p:nvSpPr>
        <p:spPr>
          <a:xfrm>
            <a:off x="2627280" y="1916280"/>
            <a:ext cx="237636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entury Gothic"/>
              </a:rPr>
              <a:t>As Crianças têm direito a serem orgulhosas das suas tradições e crenças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CaixaDeTexto 5"/>
          <p:cNvSpPr/>
          <p:nvPr/>
        </p:nvSpPr>
        <p:spPr>
          <a:xfrm>
            <a:off x="4356000" y="4941720"/>
            <a:ext cx="2087640" cy="1310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entury Gothic"/>
              </a:rPr>
              <a:t>…</a:t>
            </a:r>
            <a:r>
              <a:rPr b="0" lang="pt-PT" sz="1600" spc="-1" strike="noStrike">
                <a:solidFill>
                  <a:srgbClr val="000000"/>
                </a:solidFill>
                <a:latin typeface="Century Gothic"/>
              </a:rPr>
              <a:t>e a responsabilidade de respeitar as origens e crenças dos outr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44" name="Marcador de Posição de Conteúdo 3" descr="crianca_direitos_fadas0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Oval 4"/>
          <p:cNvSpPr/>
          <p:nvPr/>
        </p:nvSpPr>
        <p:spPr>
          <a:xfrm>
            <a:off x="4932360" y="5445000"/>
            <a:ext cx="3024360" cy="505080"/>
          </a:xfrm>
          <a:prstGeom prst="ellipse">
            <a:avLst/>
          </a:prstGeom>
          <a:solidFill>
            <a:srgbClr val="bce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47" name="Marcador de Posição de Conteúdo 3" descr="8-756d44a7ab.jpg"/>
          <p:cNvPicPr/>
          <p:nvPr/>
        </p:nvPicPr>
        <p:blipFill>
          <a:blip r:embed="rId1"/>
          <a:stretch/>
        </p:blipFill>
        <p:spPr>
          <a:xfrm>
            <a:off x="1527120" y="1882800"/>
            <a:ext cx="6089760" cy="4572000"/>
          </a:xfrm>
          <a:prstGeom prst="rect">
            <a:avLst/>
          </a:prstGeom>
          <a:ln w="0">
            <a:noFill/>
          </a:ln>
        </p:spPr>
      </p:pic>
      <p:sp>
        <p:nvSpPr>
          <p:cNvPr id="348" name="CaixaDeTexto 4"/>
          <p:cNvSpPr/>
          <p:nvPr/>
        </p:nvSpPr>
        <p:spPr>
          <a:xfrm>
            <a:off x="2843280" y="2093760"/>
            <a:ext cx="2449440" cy="824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entury Gothic"/>
              </a:rPr>
              <a:t>As Crianças têm o direito a uma casa segura e confortável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CaixaDeTexto 5"/>
          <p:cNvSpPr/>
          <p:nvPr/>
        </p:nvSpPr>
        <p:spPr>
          <a:xfrm>
            <a:off x="4211640" y="5229360"/>
            <a:ext cx="230508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entury Gothic"/>
              </a:rPr>
              <a:t>…</a:t>
            </a:r>
            <a:r>
              <a:rPr b="0" lang="pt-PT" sz="1600" spc="-1" strike="noStrike">
                <a:solidFill>
                  <a:srgbClr val="000000"/>
                </a:solidFill>
                <a:latin typeface="Century Gothic"/>
              </a:rPr>
              <a:t>e a responsabilidade de a manter limpa e assead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51" name="Marcador de Posição de Conteúdo 3" descr="crianca_direitos_fadas08.gif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669000"/>
          </a:xfrm>
          <a:prstGeom prst="rect">
            <a:avLst/>
          </a:prstGeom>
          <a:ln w="0">
            <a:noFill/>
          </a:ln>
        </p:spPr>
      </p:pic>
      <p:sp>
        <p:nvSpPr>
          <p:cNvPr id="352" name="Oval 4"/>
          <p:cNvSpPr/>
          <p:nvPr/>
        </p:nvSpPr>
        <p:spPr>
          <a:xfrm>
            <a:off x="4859280" y="5516640"/>
            <a:ext cx="2592360" cy="360360"/>
          </a:xfrm>
          <a:prstGeom prst="ellipse">
            <a:avLst/>
          </a:prstGeom>
          <a:solidFill>
            <a:srgbClr val="bce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54" name="Marcador de Posição de Conteúdo 3" descr="9-ef13ef66f8.jpg"/>
          <p:cNvPicPr/>
          <p:nvPr/>
        </p:nvPicPr>
        <p:blipFill>
          <a:blip r:embed="rId1"/>
          <a:stretch/>
        </p:blipFill>
        <p:spPr>
          <a:xfrm>
            <a:off x="1527120" y="1882800"/>
            <a:ext cx="6089760" cy="4572000"/>
          </a:xfrm>
          <a:prstGeom prst="rect">
            <a:avLst/>
          </a:prstGeom>
          <a:ln w="0">
            <a:noFill/>
          </a:ln>
        </p:spPr>
      </p:pic>
      <p:sp>
        <p:nvSpPr>
          <p:cNvPr id="355" name="CaixaDeTexto 4"/>
          <p:cNvSpPr/>
          <p:nvPr/>
        </p:nvSpPr>
        <p:spPr>
          <a:xfrm>
            <a:off x="4427640" y="2349360"/>
            <a:ext cx="2016000" cy="824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entury Gothic"/>
              </a:rPr>
              <a:t>As Crianças têm o direito a cometer erros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CaixaDeTexto 5"/>
          <p:cNvSpPr/>
          <p:nvPr/>
        </p:nvSpPr>
        <p:spPr>
          <a:xfrm>
            <a:off x="2700360" y="5229360"/>
            <a:ext cx="223200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entury Gothic"/>
              </a:rPr>
              <a:t>…</a:t>
            </a:r>
            <a:r>
              <a:rPr b="0" lang="pt-PT" sz="1600" spc="-1" strike="noStrike">
                <a:solidFill>
                  <a:srgbClr val="000000"/>
                </a:solidFill>
                <a:latin typeface="Century Gothic"/>
              </a:rPr>
              <a:t>e a responsabilidade de aprender com os seus err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58" name="Marcador de Posição de Conteúdo 3" descr="crianca_direitos_fadas0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Oval 4"/>
          <p:cNvSpPr/>
          <p:nvPr/>
        </p:nvSpPr>
        <p:spPr>
          <a:xfrm>
            <a:off x="4932360" y="5445000"/>
            <a:ext cx="3024360" cy="505080"/>
          </a:xfrm>
          <a:prstGeom prst="ellipse">
            <a:avLst/>
          </a:prstGeom>
          <a:solidFill>
            <a:srgbClr val="bce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61" name="Marcador de Posição de Conteúdo 3" descr="10-95e56fe949.jpg"/>
          <p:cNvPicPr/>
          <p:nvPr/>
        </p:nvPicPr>
        <p:blipFill>
          <a:blip r:embed="rId1"/>
          <a:stretch/>
        </p:blipFill>
        <p:spPr>
          <a:xfrm>
            <a:off x="1527120" y="1882800"/>
            <a:ext cx="6089760" cy="4572000"/>
          </a:xfrm>
          <a:prstGeom prst="rect">
            <a:avLst/>
          </a:prstGeom>
          <a:ln w="0">
            <a:noFill/>
          </a:ln>
        </p:spPr>
      </p:pic>
      <p:sp>
        <p:nvSpPr>
          <p:cNvPr id="362" name="CaixaDeTexto 4"/>
          <p:cNvSpPr/>
          <p:nvPr/>
        </p:nvSpPr>
        <p:spPr>
          <a:xfrm>
            <a:off x="4572000" y="2133720"/>
            <a:ext cx="194472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entury Gothic"/>
              </a:rPr>
              <a:t>As Crianças têm direito a serem bem alimentadas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CaixaDeTexto 5"/>
          <p:cNvSpPr/>
          <p:nvPr/>
        </p:nvSpPr>
        <p:spPr>
          <a:xfrm>
            <a:off x="2268360" y="4581360"/>
            <a:ext cx="215928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entury Gothic"/>
              </a:rPr>
              <a:t>…</a:t>
            </a:r>
            <a:r>
              <a:rPr b="0" lang="pt-PT" sz="1600" spc="-1" strike="noStrike">
                <a:solidFill>
                  <a:srgbClr val="000000"/>
                </a:solidFill>
                <a:latin typeface="Century Gothic"/>
              </a:rPr>
              <a:t>e a responsabilidade de não estragar comid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04" name="Marcador de Posição de Conteúdo 3" descr="crianca_direitos_fadas01.gif"/>
          <p:cNvPicPr/>
          <p:nvPr/>
        </p:nvPicPr>
        <p:blipFill>
          <a:blip r:embed="rId1"/>
          <a:stretch/>
        </p:blipFill>
        <p:spPr>
          <a:xfrm>
            <a:off x="501480" y="0"/>
            <a:ext cx="8642520" cy="7174080"/>
          </a:xfrm>
          <a:prstGeom prst="rect">
            <a:avLst/>
          </a:prstGeom>
          <a:ln w="0">
            <a:noFill/>
          </a:ln>
        </p:spPr>
      </p:pic>
      <p:sp>
        <p:nvSpPr>
          <p:cNvPr id="305" name="Oval 4"/>
          <p:cNvSpPr/>
          <p:nvPr/>
        </p:nvSpPr>
        <p:spPr>
          <a:xfrm>
            <a:off x="4932360" y="5589720"/>
            <a:ext cx="3024360" cy="503280"/>
          </a:xfrm>
          <a:prstGeom prst="ellipse">
            <a:avLst/>
          </a:prstGeom>
          <a:solidFill>
            <a:srgbClr val="bce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65" name="Marcador de Posição de Conteúdo 3" descr="crianca_direitos_fadas1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Oval 4"/>
          <p:cNvSpPr/>
          <p:nvPr/>
        </p:nvSpPr>
        <p:spPr>
          <a:xfrm>
            <a:off x="4932360" y="5445000"/>
            <a:ext cx="3024360" cy="505080"/>
          </a:xfrm>
          <a:prstGeom prst="ellipse">
            <a:avLst/>
          </a:prstGeom>
          <a:solidFill>
            <a:srgbClr val="bce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Oval 5"/>
          <p:cNvSpPr/>
          <p:nvPr/>
        </p:nvSpPr>
        <p:spPr>
          <a:xfrm>
            <a:off x="3780000" y="189000"/>
            <a:ext cx="3024000" cy="503280"/>
          </a:xfrm>
          <a:prstGeom prst="ellipse">
            <a:avLst/>
          </a:prstGeom>
          <a:solidFill>
            <a:srgbClr val="bce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0" name="Picture 7" descr="C:\Documents and Settings\ll\Definições locais\Temporary Internet Files\Content.IE5\B01U09YI\MC900440567[1].png"/>
          <p:cNvPicPr/>
          <p:nvPr/>
        </p:nvPicPr>
        <p:blipFill>
          <a:blip r:embed="rId1"/>
          <a:stretch/>
        </p:blipFill>
        <p:spPr>
          <a:xfrm>
            <a:off x="971640" y="2565360"/>
            <a:ext cx="3384360" cy="3024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8" descr="C:\Documents and Settings\ll\Definições locais\Temporary Internet Files\Content.IE5\W4424DLO\MC900440568[1].png"/>
          <p:cNvPicPr/>
          <p:nvPr/>
        </p:nvPicPr>
        <p:blipFill>
          <a:blip r:embed="rId2"/>
          <a:stretch/>
        </p:blipFill>
        <p:spPr>
          <a:xfrm>
            <a:off x="5003640" y="2565360"/>
            <a:ext cx="3168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07" name="Marcador de Posição de Conteúdo 3" descr="2-6c9f7cf110.jpg"/>
          <p:cNvPicPr/>
          <p:nvPr/>
        </p:nvPicPr>
        <p:blipFill>
          <a:blip r:embed="rId1"/>
          <a:stretch/>
        </p:blipFill>
        <p:spPr>
          <a:xfrm>
            <a:off x="1476360" y="1844640"/>
            <a:ext cx="6089760" cy="4572000"/>
          </a:xfrm>
          <a:prstGeom prst="rect">
            <a:avLst/>
          </a:prstGeom>
          <a:ln w="0">
            <a:noFill/>
          </a:ln>
        </p:spPr>
      </p:pic>
      <p:sp>
        <p:nvSpPr>
          <p:cNvPr id="308" name="CaixaDeTexto 5"/>
          <p:cNvSpPr/>
          <p:nvPr/>
        </p:nvSpPr>
        <p:spPr>
          <a:xfrm>
            <a:off x="2268360" y="4292640"/>
            <a:ext cx="223236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entury Gothic"/>
              </a:rPr>
              <a:t>…</a:t>
            </a:r>
            <a:r>
              <a:rPr b="0" lang="pt-PT" sz="1600" spc="-1" strike="noStrike">
                <a:solidFill>
                  <a:srgbClr val="000000"/>
                </a:solidFill>
                <a:latin typeface="Century Gothic"/>
              </a:rPr>
              <a:t>e o dever de escutar e compreender os outr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CaixaDeTexto 6"/>
          <p:cNvSpPr/>
          <p:nvPr/>
        </p:nvSpPr>
        <p:spPr>
          <a:xfrm>
            <a:off x="5292720" y="234936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CaixaDeTexto 7"/>
          <p:cNvSpPr/>
          <p:nvPr/>
        </p:nvSpPr>
        <p:spPr>
          <a:xfrm>
            <a:off x="5003640" y="2276640"/>
            <a:ext cx="208944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entury Gothic"/>
              </a:rPr>
              <a:t>As Crianças têm o direito a ser compreendidas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Marcador de Posição de Conteúdo 3" descr="crianca_direitos_fadas0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Oval 4"/>
          <p:cNvSpPr/>
          <p:nvPr/>
        </p:nvSpPr>
        <p:spPr>
          <a:xfrm>
            <a:off x="4932360" y="5373720"/>
            <a:ext cx="3024360" cy="503280"/>
          </a:xfrm>
          <a:prstGeom prst="ellipse">
            <a:avLst/>
          </a:prstGeom>
          <a:solidFill>
            <a:srgbClr val="bce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Marcador de Posição de Conteúdo 3" descr="4-f01ff65055.jpg"/>
          <p:cNvPicPr/>
          <p:nvPr/>
        </p:nvPicPr>
        <p:blipFill>
          <a:blip r:embed="rId1"/>
          <a:stretch/>
        </p:blipFill>
        <p:spPr>
          <a:xfrm>
            <a:off x="1527120" y="1952640"/>
            <a:ext cx="6089760" cy="4572000"/>
          </a:xfrm>
          <a:prstGeom prst="rect">
            <a:avLst/>
          </a:prstGeom>
          <a:ln w="0">
            <a:noFill/>
          </a:ln>
        </p:spPr>
      </p:pic>
      <p:sp>
        <p:nvSpPr>
          <p:cNvPr id="314" name="CaixaDeTexto 4"/>
          <p:cNvSpPr/>
          <p:nvPr/>
        </p:nvSpPr>
        <p:spPr>
          <a:xfrm>
            <a:off x="4067280" y="2133720"/>
            <a:ext cx="223344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entury Gothic"/>
              </a:rPr>
              <a:t>As Crianças têm o direito a uma boa educação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CaixaDeTexto 5"/>
          <p:cNvSpPr/>
          <p:nvPr/>
        </p:nvSpPr>
        <p:spPr>
          <a:xfrm>
            <a:off x="2124000" y="4437000"/>
            <a:ext cx="2016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entury Gothic"/>
              </a:rPr>
              <a:t>…</a:t>
            </a:r>
            <a:r>
              <a:rPr b="0" lang="pt-PT" sz="1600" spc="-1" strike="noStrike">
                <a:solidFill>
                  <a:srgbClr val="000000"/>
                </a:solidFill>
                <a:latin typeface="Century Gothic"/>
              </a:rPr>
              <a:t>e a responsabilidade de  estudar e respeitar os seus professores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Marcador de Posição de Conteúdo 3" descr="crianca_direitos_fadas03.gif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317" name="Oval 6"/>
          <p:cNvSpPr/>
          <p:nvPr/>
        </p:nvSpPr>
        <p:spPr>
          <a:xfrm>
            <a:off x="3492360" y="6453360"/>
            <a:ext cx="2016360" cy="215640"/>
          </a:xfrm>
          <a:prstGeom prst="ellipse">
            <a:avLst/>
          </a:prstGeom>
          <a:solidFill>
            <a:srgbClr val="bce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Oval 7"/>
          <p:cNvSpPr/>
          <p:nvPr/>
        </p:nvSpPr>
        <p:spPr>
          <a:xfrm>
            <a:off x="3348000" y="981000"/>
            <a:ext cx="5688000" cy="4535640"/>
          </a:xfrm>
          <a:prstGeom prst="ellipse">
            <a:avLst/>
          </a:prstGeom>
          <a:solidFill>
            <a:srgbClr val="e4ffc9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3. Desde o nascimento, a criança tem direito a um nome e uma nacionalida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Marcador de Posição de Conteúdo 3" descr="3-a531d17f0a.jpg"/>
          <p:cNvPicPr/>
          <p:nvPr/>
        </p:nvPicPr>
        <p:blipFill>
          <a:blip r:embed="rId1"/>
          <a:stretch/>
        </p:blipFill>
        <p:spPr>
          <a:xfrm>
            <a:off x="1527120" y="1881360"/>
            <a:ext cx="6089760" cy="4572000"/>
          </a:xfrm>
          <a:prstGeom prst="rect">
            <a:avLst/>
          </a:prstGeom>
          <a:ln w="0">
            <a:noFill/>
          </a:ln>
        </p:spPr>
      </p:pic>
      <p:sp>
        <p:nvSpPr>
          <p:cNvPr id="320" name="CaixaDeTexto 5"/>
          <p:cNvSpPr/>
          <p:nvPr/>
        </p:nvSpPr>
        <p:spPr>
          <a:xfrm>
            <a:off x="4932360" y="2060640"/>
            <a:ext cx="2160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entury Gothic"/>
              </a:rPr>
              <a:t>As Crianças têm o direito a cuidados médicos de qualidade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CaixaDeTexto 7"/>
          <p:cNvSpPr/>
          <p:nvPr/>
        </p:nvSpPr>
        <p:spPr>
          <a:xfrm>
            <a:off x="2700360" y="4581360"/>
            <a:ext cx="21589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entury Gothic"/>
              </a:rPr>
              <a:t>…</a:t>
            </a:r>
            <a:r>
              <a:rPr b="0" lang="pt-PT" sz="1800" spc="-1" strike="noStrike">
                <a:solidFill>
                  <a:srgbClr val="000000"/>
                </a:solidFill>
                <a:latin typeface="Century Gothic"/>
              </a:rPr>
              <a:t>e a responsabilidade de cuidar da sua própria saúde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23" name="Marcador de Posição de Conteúdo 3" descr="crianca_direitos_fadas04.gif"/>
          <p:cNvPicPr/>
          <p:nvPr/>
        </p:nvPicPr>
        <p:blipFill>
          <a:blip r:embed="rId1"/>
          <a:stretch/>
        </p:blipFill>
        <p:spPr>
          <a:xfrm>
            <a:off x="179280" y="27000"/>
            <a:ext cx="878544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Oval 4"/>
          <p:cNvSpPr/>
          <p:nvPr/>
        </p:nvSpPr>
        <p:spPr>
          <a:xfrm>
            <a:off x="4788000" y="5445000"/>
            <a:ext cx="3024000" cy="505080"/>
          </a:xfrm>
          <a:prstGeom prst="ellipse">
            <a:avLst/>
          </a:prstGeom>
          <a:solidFill>
            <a:srgbClr val="bce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26" name="Marcador de Posição de Conteúdo 3" descr="5-237c70d828.jpg"/>
          <p:cNvPicPr/>
          <p:nvPr/>
        </p:nvPicPr>
        <p:blipFill>
          <a:blip r:embed="rId1"/>
          <a:stretch/>
        </p:blipFill>
        <p:spPr>
          <a:xfrm>
            <a:off x="1380960" y="1773360"/>
            <a:ext cx="6235920" cy="4681440"/>
          </a:xfrm>
          <a:prstGeom prst="rect">
            <a:avLst/>
          </a:prstGeom>
          <a:ln w="0">
            <a:noFill/>
          </a:ln>
        </p:spPr>
      </p:pic>
      <p:sp>
        <p:nvSpPr>
          <p:cNvPr id="327" name="CaixaDeTexto 4"/>
          <p:cNvSpPr/>
          <p:nvPr/>
        </p:nvSpPr>
        <p:spPr>
          <a:xfrm>
            <a:off x="4427640" y="2133720"/>
            <a:ext cx="194472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entury Gothic"/>
              </a:rPr>
              <a:t>As Crianças têm o direito a ser amadas e protegidas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CaixaDeTexto 5"/>
          <p:cNvSpPr/>
          <p:nvPr/>
        </p:nvSpPr>
        <p:spPr>
          <a:xfrm>
            <a:off x="2843280" y="4724280"/>
            <a:ext cx="2376360" cy="855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entury Gothic"/>
              </a:rPr>
              <a:t>…</a:t>
            </a:r>
            <a:r>
              <a:rPr b="0" lang="pt-PT" sz="1600" spc="-1" strike="noStrike">
                <a:solidFill>
                  <a:srgbClr val="000000"/>
                </a:solidFill>
                <a:latin typeface="Century Gothic"/>
              </a:rPr>
              <a:t>e a responsabilidade de amar e acarinhar os outr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7:01:18Z</dcterms:created>
  <dc:creator>ll</dc:creator>
  <dc:description/>
  <dc:language>en-US</dc:language>
  <cp:lastModifiedBy>utilizador</cp:lastModifiedBy>
  <dcterms:modified xsi:type="dcterms:W3CDTF">2020-03-22T05:18:33Z</dcterms:modified>
  <cp:revision>18</cp:revision>
  <dc:subject/>
  <dc:title>Diapositivo 1</dc:title>
</cp:coreProperties>
</file>